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2DB-4CC0-4205-8C24-0422B7971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7B4B-7A38-466B-8929-07470C69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1950-F41D-47F9-8B17-5E3A35E5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3A7-A364-4FB6-8947-423D036B0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40491-EFFB-4450-8160-AE322A42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F362-89CC-4B47-BCCF-AC245EEB6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AD442-7055-42B1-A89C-FF004CC7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DB953-45E5-412B-82AD-D03705C9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2285-6ADA-4CC3-A0FD-832CB798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A99FE-8CCD-4BE2-A115-151B5845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FED5-5167-464F-A0A5-F53FCD8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3F4-AE96-41D3-A5A8-453CAB4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33B0F-5127-49D2-8D51-A28F8D91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513AC-9E2B-430D-A478-74AE5861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E5369-8DAA-4491-B331-60E3242E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39C7-6F61-49DD-ADAE-DC65FDDB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B2D74-29AD-4922-B13A-898B2AA89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1C4-0028-4BC3-941D-CD34A6DF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193F-D1AD-4E9D-B23D-7D440F9A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2B9F-6B73-4DBE-96EE-9C9E3A77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A9DA-D261-40C0-9ECE-BB169954A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F08E-C85B-4547-897C-612EE435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5820-37A5-49D3-87F8-826231BD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958C-261F-4D38-BD38-E2B5AA98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47C-EC0F-40BA-ADAD-0D4CA92CD5A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52D4A-CD9D-4334-A850-F86D71938F6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718A87ED0089745828D71FA79B9F0BB33E4FEF626AA6801E13B1D09DF28B19A12A7A747C7AFE0FE0E40CC04E1BC52A941A3D22F7EE57C495oDe5L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consultantplus://offline/ref=0163C5B38E2C8572B864FF9A2DBAB70468292BF970458EF6A4D2DC3C7CC511EC8B88B7D9BA8233D7FC27B0A9A507D3CD8DDAE9E03BE9FA2Ad5D7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8713800" cy="583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ОБЕСПЕЧЕНИЕ 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Verdana"/>
              </a:rPr>
              <a:t>РАБОТНИКОВ СИЗ И СМЫВАЮЩИМИ СРЕДСТВАМИ</a:t>
            </a:r>
            <a:r>
              <a:rPr b="0" lang="en-US" sz="4800" spc="-1" strike="noStrike">
                <a:solidFill>
                  <a:srgbClr val="a50021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2205000"/>
            <a:ext cx="65534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1200" y="2467800"/>
            <a:ext cx="3808440" cy="34102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ласть применения, класс защиты и (или) эксплуатационные уровни СИЗ, должны по уровн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щиты соответствовать уровням воздействия вредных и (или) опасных производстве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кторов, установленных СОУТ и ОПР, характеру воздействия опасностей, а также выполняемо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е, продолжительности работы, индивидуальным особенностям пользователя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овместимости с другими используемыми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98064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6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Нормы бесплатной выдачи СИЗ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некоторые особенности</a:t>
            </a:r>
            <a:br>
              <a:rPr sz="2800"/>
            </a:b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8" name=""/>
          <p:cNvSpPr/>
          <p:nvPr/>
        </p:nvSpPr>
        <p:spPr>
          <a:xfrm>
            <a:off x="1835280" y="978120"/>
            <a:ext cx="5451480" cy="1352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и увольнении работника, используемые им СИЗ, до истечения нормативных сроков и сро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ности, могут быть переданы в дежурные (за исключением – бельё, спецобувь, головные уборы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З ру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508720" y="2486520"/>
            <a:ext cx="3417840" cy="31741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никам, совмещающим профессии … помимо выдаваемых им СИЗ по основной професс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полнительно выдаются и СИЗ, предусмотренные Нормами для совмещаемой професс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совмещаемому виду работ) с внесением отметки о выданных СИЗ в личную карточку учета выда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ИЗ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211640" y="328464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403280" y="5946120"/>
            <a:ext cx="6840720" cy="812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Выдача утеплённых СИЗ от пониженных температу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базовым комплектом не предусмотре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ВНИМАНИЕ на оценку профессиональных рисков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3456000" cy="22939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44800" y="229680"/>
            <a:ext cx="5051520" cy="7794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Утвержда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Работодатель, дата, подпи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792680" y="615600"/>
            <a:ext cx="423720" cy="417672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Нормы бесплатной выдачи С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179280" y="2997360"/>
          <a:ext cx="8642520" cy="1922400"/>
        </p:xfrm>
        <a:graphic>
          <a:graphicData uri="http://schemas.openxmlformats.org/drawingml/2006/table">
            <a:tbl>
              <a:tblPr/>
              <a:tblGrid>
                <a:gridCol w="576360"/>
                <a:gridCol w="1224000"/>
                <a:gridCol w="863640"/>
                <a:gridCol w="2449440"/>
                <a:gridCol w="2087640"/>
                <a:gridCol w="1441440"/>
              </a:tblGrid>
              <a:tr h="1278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 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профессии (должности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П С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З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с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азанием конкретных данных о конструкци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,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ассе защиты, категориях эффективности и/или эксплуатационных уровнях)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рмы выдачи с указанием периодичности выдачи, количества на период, единицы измерения (штуки, пары, комплекты, г, мл.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снование выдачи СИЗ (пункты Единых типовых норм, правил по охране труда и иных документов)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</a:tr>
              <a:tr h="472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cc">
                        <a:alpha val="66000"/>
                      </a:srgbClr>
                    </a:solidFill>
                  </a:tcPr>
                </a:tc>
              </a:tr>
              <a:tr h="1713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 rot="16200000">
            <a:off x="1391760" y="4160880"/>
            <a:ext cx="454680" cy="244800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ственное ли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4351680" y="4730040"/>
            <a:ext cx="729000" cy="244800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подпис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7231680" y="4730400"/>
            <a:ext cx="729000" cy="244764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фамилия, инициал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46080" y="62640"/>
            <a:ext cx="6962760" cy="104940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ВЫДАЧА ДЕЖУРНЫХ СИ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(п. 32- 3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3764880" y="1283040"/>
            <a:ext cx="1400040" cy="684396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ыдача и сдача дежурных СИЗ по окончании нормативного срока эксплуатации фиксируется в карточке выдачи дежурных С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в электронном или бумажном вид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1432080"/>
            <a:ext cx="6960960" cy="1793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д дежурными понимаются СИЗ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закрепляемые за определенным рабо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естом и выдаваемые поочередно нескольк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никам только на время выполнения те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абот, для которых СИЗ предназнач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2492280"/>
          <a:ext cx="8642160" cy="744480"/>
        </p:xfrm>
        <a:graphic>
          <a:graphicData uri="http://schemas.openxmlformats.org/drawingml/2006/table">
            <a:tbl>
              <a:tblPr/>
              <a:tblGrid>
                <a:gridCol w="1633320"/>
                <a:gridCol w="2303280"/>
                <a:gridCol w="1920960"/>
                <a:gridCol w="2784600"/>
              </a:tblGrid>
              <a:tr h="3661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нкт Нор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диница измерения, периодичность выд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 на пери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</a:tr>
              <a:tr h="27720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</a:tr>
              <a:tr h="10116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 rot="16200000">
            <a:off x="4284000" y="-3917160"/>
            <a:ext cx="576000" cy="8642160"/>
          </a:xfrm>
          <a:prstGeom prst="rect">
            <a:avLst/>
          </a:prstGeom>
          <a:solidFill>
            <a:srgbClr val="0099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арточка учета выдачи дежурных СИЗ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Лицевая сторона личной карточ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rot="16200000">
            <a:off x="4390560" y="-3374280"/>
            <a:ext cx="362880" cy="864216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АРТОЧКА N ___ учета выдачи дежурных СИЗ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rot="16200000">
            <a:off x="3979440" y="-2531520"/>
            <a:ext cx="1184760" cy="8642160"/>
          </a:xfrm>
          <a:prstGeom prst="rect">
            <a:avLst/>
          </a:prstGeom>
          <a:solidFill>
            <a:srgbClr val="0099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дентификатор рабочего места, за которым закреплены дежурные СИЗ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Структурное подразделение __________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милия, имя, отчество (при наличии) ответственного 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офессия (должность) ответственного ______________________________________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редусмотрена приказом (номер и дата приказа об утверждении Норм) выдач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6200000">
            <a:off x="1221120" y="2458800"/>
            <a:ext cx="362880" cy="230328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тветственное лиц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rot="16200000">
            <a:off x="4062960" y="2569320"/>
            <a:ext cx="729000" cy="244800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одпис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rot="16200000">
            <a:off x="7340400" y="2534040"/>
            <a:ext cx="729000" cy="237636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фамилия, инициал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6200000">
            <a:off x="4207320" y="335520"/>
            <a:ext cx="729000" cy="8642160"/>
          </a:xfrm>
          <a:prstGeom prst="rect">
            <a:avLst/>
          </a:prstGeom>
          <a:solidFill>
            <a:srgbClr val="0099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оротная сторона личной карто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250920" y="5157720"/>
          <a:ext cx="8642160" cy="1370160"/>
        </p:xfrm>
        <a:graphic>
          <a:graphicData uri="http://schemas.openxmlformats.org/drawingml/2006/table">
            <a:tbl>
              <a:tblPr/>
              <a:tblGrid>
                <a:gridCol w="1162080"/>
                <a:gridCol w="1234800"/>
                <a:gridCol w="506520"/>
                <a:gridCol w="1017720"/>
                <a:gridCol w="1162080"/>
                <a:gridCol w="507960"/>
                <a:gridCol w="1017360"/>
                <a:gridCol w="943200"/>
                <a:gridCol w="1090440"/>
              </a:tblGrid>
              <a:tr h="2764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именование С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ель, марка, артикул, класс защиты СИЗ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ДА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ВРАЩ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, ПОЛУЧИВШЕГО СИ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ЛИЧЕСТВО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ПИСЬ, СДАВШЕГО СИЗ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КТ СПИСАНИЯ (ДАТА,№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9900">
                        <a:alpha val="66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292720" y="3426120"/>
            <a:ext cx="3610080" cy="2126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аботах, связанных с неустойчивыми загрязнениями, работодатель имеет право не выдавать непосредственно работнику смывающие средства. В этом случае работодатель обеспечивает их постоянное наличие в санитарно-бытовых помещениях. Внесение отметки о выдаче на данных условиях указанных смывающих средств в личную карточку учета выдачи СИЗ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-108000" y="189000"/>
            <a:ext cx="925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ормы дераматологических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мывающих С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которые особенности (п. 35 -47)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1123560"/>
            <a:ext cx="3597120" cy="22284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работах, связанных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устойчивыми загрязнениями, для использования в душевых или в помещениях для умывания работникам выдаются дерматологические СИЗ очищающего типа в виде средств для очищения от неустойчивых загрязнений и смывающие средства в виде твердого мыла или жидких моющих средств (жидкое туалетное мыло, гель для тела и волос и друг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08000" y="5687280"/>
            <a:ext cx="4959360" cy="9126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е допускается замена смывающих средств агрессивными для кожи средствами (органическими растворителями, абразивными веществами (песок, чистящие порошки), каустической содой и други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24000" y="3786840"/>
            <a:ext cx="3609720" cy="15199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ериод распространения инфекций вирусной этиологии дерматологические СИЗ защитного типа: средства для защиты от биологических факторов (микроорганизмов): вирусов (средства с противовирусным (вирулицидным) действием) выдаются всем работник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95640" y="2421000"/>
            <a:ext cx="1225800" cy="1871640"/>
          </a:xfrm>
          <a:custGeom>
            <a:avLst/>
            <a:gdLst>
              <a:gd name="textAreaLeft" fmla="*/ 0 w 1225800"/>
              <a:gd name="textAreaRight" fmla="*/ 1226160 w 122580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200" y="1166400"/>
            <a:ext cx="3665520" cy="24303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обеспечения защиты от загрязнений, воздействия агрессивных рабочих материалов, веществ и сред работникам выдаются в соответствии с Нормами, разработанными на основании положений Единых типовых </a:t>
            </a:r>
            <a:r>
              <a:rPr b="0" lang="ru-RU" sz="1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нор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регулирующих выдачу дерматологических СИЗ и смывающих средств, дерматологические СИЗ с подтвержденной эффективностью различных форм (кремы, эмульс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ли, спреи) и видов 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060640" y="4895640"/>
            <a:ext cx="5119560" cy="17229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дача дерматологических СИЗ фиксируется в личной карточке учета выдачи СИЗ работнику с указанием информации о способе выдачи данного вида СИЗ - лично (индивидуально) или с использованием дозирующих систем. Данная информация отражается в личной карточке учета выдачи СИЗ 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соответствующей отметкой в графе "Лично/дозатор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89000"/>
            <a:ext cx="9252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ормы дераматологических,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мывающих СИЗ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некоторые особенности</a:t>
            </a: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3" name=""/>
          <p:cNvSpPr/>
          <p:nvPr/>
        </p:nvSpPr>
        <p:spPr>
          <a:xfrm>
            <a:off x="5796000" y="2418840"/>
            <a:ext cx="3093840" cy="23284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При работах, требующих применения дерматологических СИЗ защитного и очищающего типа для очищения от устойчивых и (или) особо устойчивых загрязнений, работникам выдаются, в комплексе с указанными средствами, дерматологические СИЗ регенерирующего (восстанавливающего) тип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2532960"/>
            <a:ext cx="3659040" cy="22284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дача работникам дерматологических СИЗ осуществляется ежемесячно, кроме времени отсутствия на рабочем месте по причине нахождения в отпуске. Дерматологические СИЗ, оставшиеся неиспользованными по истечении отчетного периода (один месяц), могут быть использованы в следующем месяце при соблюдении срока год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84720" y="2708280"/>
            <a:ext cx="1225440" cy="1871640"/>
          </a:xfrm>
          <a:custGeom>
            <a:avLst/>
            <a:gdLst>
              <a:gd name="textAreaLeft" fmla="*/ 0 w 1225440"/>
              <a:gd name="textAreaRight" fmla="*/ 1225800 w 1225440"/>
              <a:gd name="textAreaTop" fmla="*/ 0 h 1871640"/>
              <a:gd name="textAreaBottom" fmla="*/ 187200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062080" y="1151280"/>
            <a:ext cx="4948200" cy="11152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Выдача работникам дерматологических СИЗ, расфасованных в упаковки емкостью 250 мл и более, осуществляется посредством применения дозирующих систем (дозаторов), которые размещаются в производственных или санитарно-бытовых помещ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8000" y="186840"/>
            <a:ext cx="9036000" cy="152208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хранение, стир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сушка, ремонт выданных работникам СИЗ (п. 63 -7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rot="16200000">
            <a:off x="3963240" y="363960"/>
            <a:ext cx="1003320" cy="684396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 время стирки, работникам может выдаваться 2-ой комплект СИЗ. При этом ср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оски увеличивается в 2 ра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42920" y="1914120"/>
            <a:ext cx="6885000" cy="10155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ботникам запрещается выносить по окончании рабочего дня СИЗ за преде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рритории работода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6200000">
            <a:off x="3898800" y="2014200"/>
            <a:ext cx="1277640" cy="684360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 отсутствии возможности стирки СИЗ у работодателя, должен быть заключё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оответствующий договор со специализированной организа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080" y="659520"/>
            <a:ext cx="8943840" cy="57672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Эксплуатация СИЗ (п. 56 -6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rot="16200000">
            <a:off x="3949920" y="376920"/>
            <a:ext cx="1032840" cy="684360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еречень СИЗ, подлежащих испытаниям и (или) проверке, разрабатывается и утверждается работодателем с учетом мнения выборного органа первичной профсоюзной организации или иного представительного органа работников (при его налич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41480" y="1898280"/>
            <a:ext cx="6888240" cy="10486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счисление нормативных сроков эксплуатации и нормативной выдачи СИЗ, выдаваемых один раз в месяц и чаще, происходит с учетом времени, фактически проведенного работником на рабочем месте, без учета отпусков (в том числе учеб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3703320" y="2209680"/>
            <a:ext cx="1672200" cy="6843960"/>
          </a:xfrm>
          <a:prstGeom prst="rect">
            <a:avLst/>
          </a:prstGeom>
          <a:solidFill>
            <a:srgbClr val="0099cc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 отдельных случаях, в соответствии с условиями работы, СИЗ остаются в нерабочее время у работников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Перечень СИЗ, которые остаются у работников в нерабочее время, с указанием профессий (должностей) работников утверждается локальным нормативным актом работодателя. Ответственность за сохранность СИЗ несет работник, за которым закреплены данные СИЗ</a:t>
            </a:r>
            <a:r>
              <a:rPr b="0" lang="en-US" sz="1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84360" y="65520"/>
            <a:ext cx="8064360" cy="91404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НА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о Правилам обеспечения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916920"/>
            <a:ext cx="8337600" cy="61261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ормы бесплатной выдачи СИЗ и смывающих средств работникам организац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ядок обеспечения работников СИЗ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шение о применении с 01.09.2023 года до 31.12.2024 года ЕТН или Типовых нор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Установление периода года, при наступлении которого работникам выдаются СИЗ, предназначенные для использования на открытом воздухе для защиты от пониженных или повышенных температур, обусловленных ежегодными сезонными изменениями темпера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для подбора СИЗ работникам подрядных организаций, учитывающая специфику производственной деятельности работодателя, на территории которого проводятся работ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чень СИЗ, подлежащих испытаниям и (или) проверк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еречень СИЗ, которые остаются у работников в нерабочее время, с указанием профессий (должностей) работник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етод идентификации работника и автоматического заполнения данных о выданных СИЗ в электронной карточке учета выдачи СИЗ (при выдаче СИЗ в вендинговых аппаратах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84360" y="257400"/>
            <a:ext cx="8064360" cy="91404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ЛНА работодател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по Правилам обеспечения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9640" y="1407240"/>
            <a:ext cx="8209080" cy="44568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рядок обеспечения СИЗ должен включать в себ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ядок выявления потребности работников в СИЗ, планирование потребности и подбор СИЗ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редупредительно-плановый характер закупки (аренды, аутсорсинга) СИЗ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спределение обязанностей и ответственности руководителей структурных подразделений по организации и обеспечению функционирования процесса обеспечения работников СИЗ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ядок выдачи, эксплуатации (использования), входного контроля, хранения, ухода (обслуживания), вывода из эксплуатации и утилизации СИЗ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рядок информирования работников по вопросам обеспечения СИЗ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онтроль за обеспеченностью работников СИЗ и их применением, а также анализ результатов контрол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2" name=""/>
          <p:cNvSpPr/>
          <p:nvPr/>
        </p:nvSpPr>
        <p:spPr>
          <a:xfrm>
            <a:off x="4346640" y="1312560"/>
            <a:ext cx="4597200" cy="25354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редство индивидуальной защиты - средство, используемое для предотвращения или уменьшения воздействия на работника вредных и (или) опасных производственных факторов, особых температурных условий, а также для защиты от загрязн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4483440"/>
            <a:ext cx="8640720" cy="1793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редства индивидуальной защиты включают в себя специальную одежду, специальную обувь, дерматологические средства защиты (ДСИЗ), средства защиты органов дыхания (СИЗОД), рук, головы, лица, органа слуха, глаз, средства защиты от падения с высоты и другие средства индивидуальной защи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82600" y="63720"/>
            <a:ext cx="7058160" cy="5094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Verdana"/>
              </a:rPr>
              <a:t>ОПРЕДЕЛЕНИЕ СТ. 209,221, ТК Р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79280" y="907920"/>
            <a:ext cx="3816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4360" y="257400"/>
            <a:ext cx="8064360" cy="91404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Выдача СИЗ работникам сторонних организац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344600"/>
            <a:ext cx="8209080" cy="29358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тники сторонних организаций, выполняющие работы по договору подряда в производственных цехах и участках принимающей стороны (заказчика), где имеются вредные и (или) опасные производственные факторы, а также при выполнении работ в особых температурных условиях или связанных с загрязнением, должны быть обеспечены СИЗ за счет средств работодателя сторонней организации в соответствии с Нормами работодателя сторонней организац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4488840"/>
            <a:ext cx="8143920" cy="1721880"/>
          </a:xfrm>
          <a:prstGeom prst="roundRect">
            <a:avLst>
              <a:gd name="adj" fmla="val 16667"/>
            </a:avLst>
          </a:prstGeom>
          <a:solidFill>
            <a:srgbClr val="0099cc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даваемые СИЗ должны учитывать специфику производственной деятельности работодателя, на территории которого проводятся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формацию для подбора СИЗ по запросу предоставляет работодатель, на территории которого проводятся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508720" y="333360"/>
            <a:ext cx="31068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СТ.221 ТК РФ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29880" y="1206720"/>
            <a:ext cx="1883880" cy="5041800"/>
          </a:xfrm>
          <a:prstGeom prst="rect">
            <a:avLst/>
          </a:prstGeom>
          <a:solidFill>
            <a:srgbClr val="3399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ботодатель за счет своих средств обяз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 соответстви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становленными нормами обеспечивать своевременную выдачу СИЗ, 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анение, а также стирку, химическую чистку, сушку, ремонт и замен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ИЗ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11280" y="189000"/>
            <a:ext cx="4176720" cy="237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508720" y="1125360"/>
            <a:ext cx="3311280" cy="3337560"/>
          </a:xfrm>
          <a:custGeom>
            <a:avLst/>
            <a:gdLst>
              <a:gd name="textAreaLeft" fmla="*/ 161640 w 3311280"/>
              <a:gd name="textAreaRight" fmla="*/ 3149640 w 3311280"/>
              <a:gd name="textAreaTop" fmla="*/ 161640 h 3337560"/>
              <a:gd name="textAreaBottom" fmla="*/ 3175920 h 3337560"/>
            </a:gdLst>
            <a:ahLst/>
            <a:rect l="textAreaLeft" t="textAreaTop" r="textAreaRight" b="textAreaBottom"/>
            <a:pathLst>
              <a:path w="21600" h="21771">
                <a:moveTo>
                  <a:pt x="3600" y="0"/>
                </a:moveTo>
                <a:arcTo wR="3600" hR="3600" stAng="16200000" swAng="-5400000"/>
                <a:lnTo>
                  <a:pt x="0" y="18171"/>
                </a:lnTo>
                <a:arcTo wR="3600" hR="3600" stAng="10800000" swAng="-5400000"/>
                <a:lnTo>
                  <a:pt x="18000" y="217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ля защиты от воздействия вредных и опасных факторов производств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реды и загрязнения, а также на работах, выполняемых в особы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емпературных условиях, работникам бесплатно выдаются сре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ндивидуальной защиты и смывающие средства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3751560" y="1491840"/>
            <a:ext cx="1640520" cy="8496000"/>
          </a:xfrm>
          <a:prstGeom prst="rect">
            <a:avLst/>
          </a:prstGeom>
          <a:solidFill>
            <a:srgbClr val="3399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рмы бесплатной выдачи СИЗ и смывающих средств работникам устанавливаются работодателем на основании единых Типовых норм выдачи СИЗ и смывающих средств с учетом результатов СОУТ, результатов ОПР, мнения выборного органа первичной профсоюзной организации или иного уполномоченного представительного органа работников (при наличии такого представительного органа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24000" y="687240"/>
            <a:ext cx="4240080" cy="22294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разработать на основании Единых типовых </a:t>
            </a:r>
            <a:r>
              <a:rPr b="0" lang="en-US" sz="14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норм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, с учетом результатов СОУТ, результатов ОПР, мнения выборного органа первичной профсоюзной организации или иного представительного органа работников (при его наличии) и утвердить локальным нормативным актом Нормы бесплатной выдачи СИЗ и смывающих средств работникам организ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2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"/>
          <p:cNvSpPr/>
          <p:nvPr/>
        </p:nvSpPr>
        <p:spPr>
          <a:xfrm>
            <a:off x="4859280" y="544680"/>
            <a:ext cx="3944880" cy="246564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ить разработку локального нормативного акта, устанавливающего порядок обеспечения работников СИЗ и смывающими средствами, распределение обязанностей и ответственности должностных лиц за этапы обеспечения работников СИЗ и смывающими средствами, с учетом особенностей структуры управления организации и требований Прави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063960"/>
            <a:ext cx="3960720" cy="17571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ить информирование работников о полагающихся им СИЗ и смывающих средствах согласно Нормам и способах выдачи, условиях хранения, а также об ответственности за целостность и комплектность СИЗ в случае хранения СИЗ у работников в нерабочее врем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92720" y="3127680"/>
            <a:ext cx="3627360" cy="19933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рганизовать учет и контроль за выдачей работникам СИЗ и смывающих средств, а также за своевременным возвратом СИЗ по истечении нормативного срока эксплуатации или срока годности СИЗ либо в случае досрочного выхода СИЗ из стро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937400"/>
            <a:ext cx="4125960" cy="17571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еспечить проведение обучения, инструктажа или иного способа информирования работников о правилах эксплуатации СИЗ, использование которых требует от них практических навыков, знаний о простейших способах проверки их работоспособности и исправ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211640" y="3068640"/>
            <a:ext cx="1079640" cy="1440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92720" y="5225400"/>
            <a:ext cx="3675240" cy="15210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е допускать работников к выполнению работ без обеспечения СИЗ, а также в неисправных СИЗ или в СИЗ с загрязнениями, способными снизить заявленный изготовителем уровень защитных свой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8000" y="1840680"/>
            <a:ext cx="3981240" cy="128484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ть в случае применения вендингового оборудовании и дозаторов постоянное наличие в них СИЗ, смывающих и обеззараживающих средст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2916360" y="904680"/>
            <a:ext cx="3574800" cy="812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ть контроль за правильностью применения СИЗ работник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3496320"/>
            <a:ext cx="3853080" cy="15210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ть хранение СИЗ в соответствии с эксплуатационной документацией изготовителя, сушку, выявление повреждений в процессе эксплуатации и ремонт СИЗ в период эксплуа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435640" y="2344680"/>
            <a:ext cx="3468600" cy="17571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ить уход (стирку, химчистку, обеспыливание, дегазацию, дезактивацию, дезинфекцию), обслуживание СИЗ в соответствии с рекомендациями изготовителей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843280" y="5297400"/>
            <a:ext cx="3909960" cy="8125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еспечить своевременный прием от работников и вывод из эксплуатации, а также утилизацию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1640" y="2133720"/>
            <a:ext cx="1079640" cy="14396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68360" y="2133360"/>
            <a:ext cx="3862440" cy="148644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рмировать Нормы и вести учет выдачи работникам СИЗ с применением программных средств (информационно-аналитических баз данны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10920" y="764640"/>
            <a:ext cx="5761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одатель имеет право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2061720"/>
            <a:ext cx="3363840" cy="17218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овать выдачу СИЗ и (или) их сменных элементов, посредством автоматизированных систем выдачи (вендингового оборудования) и доза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6360" y="4150800"/>
            <a:ext cx="6311880" cy="17218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осуществлять при формировании Норм замену нескольких СИЗ, указанных в Единых типовых нормах, на одно, обеспечивающее аналогичную или улучшенную защиту от вредных и (или) опасных производственных факторов и опасностей, а также особых температурных условий или загрязн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519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08000" y="2203200"/>
            <a:ext cx="3738600" cy="6433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эксплуатировать (использовать) по назначению выданные ему С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работник  обязан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1410840"/>
            <a:ext cx="3564000" cy="6094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блюдать правила эксплуатации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спользо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8000" y="2999160"/>
            <a:ext cx="3816360" cy="22611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водить перед началом работы осмотр, оценку исправности, комплектности и пригодности СИЗ, информировать работодателя о потере целостности выданных СИЗ, загрязнении, их порче, выходе из строя (неисправности), утрате или пропаж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64000" y="2202840"/>
            <a:ext cx="3516480" cy="84564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нформировать работодателя об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зменившихс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антропометрических дан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3280" y="5445000"/>
            <a:ext cx="3744720" cy="11826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нуть работодателю утратившие до окончания нормативного срока эксплуатации или срока годности целостность или испорченные С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1640" y="3068640"/>
            <a:ext cx="1079640" cy="144000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64000" y="3357720"/>
            <a:ext cx="3597480" cy="14518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ернуть работодателю СИЗ по истечении нормативного срока эксплуатации или срока годности, а также в случае увольнения работн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8000" y="260280"/>
            <a:ext cx="9036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94040" y="2713680"/>
            <a:ext cx="5298840" cy="7117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Форм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орм бесплатной выдачи СИЗ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3640" y="187200"/>
            <a:ext cx="5618160" cy="1994760"/>
          </a:xfrm>
          <a:prstGeom prst="roundRect">
            <a:avLst>
              <a:gd name="adj" fmla="val 16667"/>
            </a:avLst>
          </a:prstGeom>
          <a:solidFill>
            <a:srgbClr val="ffff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ПЕРЕХОД К ЕДИНЫМ ТИПОВ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НОРМАМ ВЫДАЧИ СИЗ (ЕТН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71640" y="3789360"/>
            <a:ext cx="2905200" cy="14526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ираем базо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мплект СИЗ 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ответствии 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офесс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 приложению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716280"/>
            <a:ext cx="3384720" cy="148644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ополняем комплект СИ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 видам опасностей с учётом результа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УТ и ОП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 приложению 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1640" y="5589000"/>
            <a:ext cx="2854080" cy="9126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ыбираем комплек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ДСИЗ и 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по приложению 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515920"/>
            <a:ext cx="3384720" cy="9126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ормируем нормы выдач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гласуем с профсоюзо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тверждаем руководите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80836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ffcc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50920" y="1121400"/>
            <a:ext cx="3624120" cy="15210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жны обеспечивать равноценную и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евосходящую, по сравнению с ЕТН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щиту работников от факторов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явленных при СОУТ и ОП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43718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Нормы бесплатной выдачи СИЗ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некоторые особенности</a:t>
            </a:r>
            <a:br>
              <a:rPr sz="2800"/>
            </a:b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(п. 24 -31)</a:t>
            </a:r>
            <a:endParaRPr b="0" lang="en-US" sz="1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977040"/>
            <a:ext cx="3600720" cy="15210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уководителям, специалистам, ИТР, бригадирам, мастерам, выдаются СИЗ, как и работникам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у которых они контролируют … Срок эксплуатации СИЗ не более их срока год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920320"/>
            <a:ext cx="3578040" cy="152100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олжны содержать конкретную информац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 классе защиты, эксплуатационных уровня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защиты, особенностях конструкции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лектности выдаваемых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2560320"/>
            <a:ext cx="3649680" cy="222948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одатель в рамках проведения ОПР организует мониторинг и актуализацию Норм. 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учае выявления, при проведении ОПР, не зафиксированных ранее опасностей, работодател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бязан актуализировать Нормы и обеспечить выдачу вновь включённых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648680"/>
            <a:ext cx="3600360" cy="199332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аботодатель вправе не учитывать СИЗ от опасностей, уровень риска по которым не приведёт 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нанесению вреда здоровью работника … вследствие реализации работодателем ины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мероприятий по управлению рисками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67280" y="2565360"/>
            <a:ext cx="1079280" cy="1440000"/>
          </a:xfrm>
          <a:custGeom>
            <a:avLst/>
            <a:gdLst>
              <a:gd name="textAreaLeft" fmla="*/ 0 w 1079280"/>
              <a:gd name="textAreaRight" fmla="*/ 1079640 w 1079280"/>
              <a:gd name="textAreaTop" fmla="*/ 0 h 1440000"/>
              <a:gd name="textAreaBottom" fmla="*/ 144000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3366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4937400"/>
            <a:ext cx="4749480" cy="1757160"/>
          </a:xfrm>
          <a:prstGeom prst="roundRect">
            <a:avLst>
              <a:gd name="adj" fmla="val 16667"/>
            </a:avLst>
          </a:prstGeom>
          <a:solidFill>
            <a:srgbClr val="3399ff">
              <a:alpha val="66000"/>
            </a:srgbClr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ыбор СИЗ, осуществляется работодателем при сопоставлении результатов СОУТ и ОПР 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анными о защитных свойствах СИЗ в соответствии с эксплуатационной документаци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зготовителя и сертификатами или декларациями к С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9T12:47:27Z</dcterms:created>
  <dc:creator>User</dc:creator>
  <dc:description/>
  <dc:language>en-US</dc:language>
  <cp:lastModifiedBy>trud</cp:lastModifiedBy>
  <dcterms:modified xsi:type="dcterms:W3CDTF">2023-08-28T09:48:28Z</dcterms:modified>
  <cp:revision>58</cp:revision>
  <dc:subject/>
  <dc:title>Организация службы охраны труда на предприятии</dc:title>
</cp:coreProperties>
</file>