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C81-BD46-405E-8152-8F302620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F42-7837-4BF7-9A80-02246A0C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4DD-31CB-44FC-9DE2-5E834A81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3FA-AC1F-4939-AFAA-7CE2B148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7DF6-D4AA-426E-B2B3-00C91568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627B-F86E-46E9-8292-CA643F4A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1E87-8EEB-4384-8527-87C858E7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0C16-04DC-4E58-A9A2-688BBA94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5AA2-72DD-4130-BFFB-6DEFA625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288B-5F40-4D50-A260-9D8F9726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B549-7380-4052-927A-6F65DEA2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F0B-1888-41F2-8330-95107DE4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028D-B85A-458D-8132-EA8681A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583C-9F6D-4707-B328-064CB44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C772-0D1A-41D5-A623-A6905933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45AC-CFA5-4C8A-B48E-048E2A35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A64A-0EE8-436D-9CE0-1973BF65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0B8-7153-49D3-AA69-F1452043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02A-2DBA-4449-A1A5-5677B491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BEB-1361-439F-9AD6-6B742359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CF7-0879-4717-878C-C3E704B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625-5BA4-40E6-87EB-F2662AC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371-AED4-4E6B-B2D3-16DF70D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D4B-5726-431E-AE4F-EEA9673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0788-53D6-4E8A-A163-3E9C4B669D0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DDAF-2F80-4756-AF1C-1632BA6F9C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442C3A1F5268EA6F50FB2253DA82CDCBB88A7AF86A885F91787F9E5D351777BA7E58EE9383F381081C08313F972D307A100E96C21A6BC45E71W0I" TargetMode="External"/><Relationship Id="rId2" Type="http://schemas.openxmlformats.org/officeDocument/2006/relationships/hyperlink" Target="consultantplus://offline/ref=3114157547D9B14A4E6B64071B7AC8F80161041D59390BCDF4F47C889E018D9214C71AE7CBC87F6004519CE1C47A91B64B17E146080F3026eDY6I" TargetMode="External"/><Relationship Id="rId3" Type="http://schemas.openxmlformats.org/officeDocument/2006/relationships/hyperlink" Target="consultantplus://offline/ref=3FDA72EF5E0E12564E2E81C6E2A47E9F8DE94B5FB5DB03B66AFB48CF65EB876EE21BFE4AD6469A438B0C161BE38285A36DF245AF8B4A82EAc2fCI" TargetMode="External"/><Relationship Id="rId4" Type="http://schemas.openxmlformats.org/officeDocument/2006/relationships/hyperlink" Target="consultantplus://offline/ref=6C03A3F7A5F6ABEE0046DE687D6FDC359447DF7E67F9FC790A04478B1E8200A6746E4297157244434427C5D963A323D3B916803DB80506B1pFiFI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D89D9B4D253E6B1BFA2628268E1CF8623269C7894187081188219DFD2F810F253D9FF2A2D3DDFF936E1417275CBCF896F06A95E00F3068BFm7XBL" TargetMode="External"/><Relationship Id="rId2" Type="http://schemas.openxmlformats.org/officeDocument/2006/relationships/hyperlink" Target="consultantplus://offline/ref=3979BDDE2D1D0C67CA272F1DB43226A2EC77A092E6C393B72652746C15F0CC02AEB08A1D22E5B1EE9D7539B7F70F4A9E83491858E295a1Y7L" TargetMode="External"/><Relationship Id="rId3" Type="http://schemas.openxmlformats.org/officeDocument/2006/relationships/hyperlink" Target="consultantplus://offline/ref=3979BDDE2D1D0C67CA272F1DB43226A2EC77A092E6C393B72652746C15F0CC02AEB08A1D2BE3B0EE9D7539B7F70F4A9E83491858E295a1Y7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AFCA63145601C767EF64C9DCD1135B7608DEC81D0717CB546687F2D922DD4F5C73D3648F3BBC3D1D44666D37ABE61709F3FDF8BF7F096C0C75d8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CE42B9458669FD61630E0450C539BFB04AF64A0ADBD7AB857C0D5CBC26C53BCED16A9EEC5EB6E2D2007CB1653C2C9CFA97D4AB305A6C69DB69pEL" TargetMode="External"/><Relationship Id="rId2" Type="http://schemas.openxmlformats.org/officeDocument/2006/relationships/hyperlink" Target="consultantplus://offline/ref=9D7334285F6381AAE6E93129EFC87D0378B2C2F7F5075A133CCDE420B9FA8A2DE08CC840127881D717846B99F9AE7D26B7D7602C2EBD797EI0r4L" TargetMode="External"/><Relationship Id="rId3" Type="http://schemas.openxmlformats.org/officeDocument/2006/relationships/hyperlink" Target="consultantplus://offline/ref=9D7334285F6381AAE6E93129EFC87D0378B2C2F7F5075A133CCDE420B9FA8A2DE08CC840127881D717846B99F9AE7D26B7D7602C2EBD797EI0r4L" TargetMode="External"/><Relationship Id="rId4" Type="http://schemas.openxmlformats.org/officeDocument/2006/relationships/hyperlink" Target="consultantplus://offline/ref=9D7334285F6381AAE6E93129EFC87D0378B2C2F7F5075A133CCDE420B9FA8A2DE08CC840127881D717846B99F9AE7D26B7D7602C2EBD797EI0r4L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onsultantplus://offline/ref=43B0767A533463C5EF90B502AEBAFB60065F2A1544151075976B189B6F3D719470C1F862A12CFE07FA775338F54680E7E2C3DE20AB77M5iD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E6CF19D19FAEEC7E7D4C872D53D675504DA3B9A89906153E24A51076D26CD72F817B2561D04361C2432DE4EF1140B07C3835FC46438851Dv8q0N" TargetMode="External"/><Relationship Id="rId2" Type="http://schemas.openxmlformats.org/officeDocument/2006/relationships/hyperlink" Target="consultantplus://offline/ref=BE6CF19D19FAEEC7E7D4C872D53D675504DA3B9A89906153E24A51076D26CD72F817B2501650645B75348817AB410E1BC99D5DvCqFN" TargetMode="External"/><Relationship Id="rId3" Type="http://schemas.openxmlformats.org/officeDocument/2006/relationships/hyperlink" Target="consultantplus://offline/ref=AB1701E1F46B90D6B3DB115665FB864185FEAFFBE3A110D4A931A86DDCD8D80E4D71CA887F3B17392504A23FFCCFA54C18BE7589DD680B14ADl1N" TargetMode="External"/><Relationship Id="rId4" Type="http://schemas.openxmlformats.org/officeDocument/2006/relationships/hyperlink" Target="consultantplus://offline/ref=AB1701E1F46B90D6B3DB115665FB864188F8A4FAEBAE4DDEA168A46FDBD7870B4A60CA8B772515313F0DF66CABlBN" TargetMode="External"/><Relationship Id="rId5" Type="http://schemas.openxmlformats.org/officeDocument/2006/relationships/hyperlink" Target="consultantplus://offline/ref=AB1701E1F46B90D6B3DB115665FB864182FDADF6EFA010D4A931A86DDCD8D80E4D71CA887F3816302004A23FFCCFA54C18BE7589DD680B14ADl1N" TargetMode="External"/><Relationship Id="rId6" Type="http://schemas.openxmlformats.org/officeDocument/2006/relationships/hyperlink" Target="consultantplus://offline/ref=F379A053B5442C3B0EDFE852C5DB41F2552A341700B348A3CB46AED4518B42263847F3CAC62EB67FDDD6BE4FFFD4DEFA5B5342FF665FAFA0k7t9N" TargetMode="External"/><Relationship Id="rId7" Type="http://schemas.openxmlformats.org/officeDocument/2006/relationships/hyperlink" Target="consultantplus://offline/ref=F379A053B5442C3B0EDFE852C5DB41F2552A341700B348A3CB46AED4518B42263847F3CAC62EB67ED5D6BE4FFFD4DEFA5B5342FF665FAFA0k7t9N" TargetMode="External"/><Relationship Id="rId8" Type="http://schemas.openxmlformats.org/officeDocument/2006/relationships/hyperlink" Target="consultantplus://offline/ref=F379A053B5442C3B0EDFE852C5DB41F2552A341700B348A3CB46AED4518B42263847F3CAC62EB777D5D6BE4FFFD4DEFA5B5342FF665FAFA0k7t9N" TargetMode="External"/><Relationship Id="rId9" Type="http://schemas.openxmlformats.org/officeDocument/2006/relationships/hyperlink" Target="consultantplus://offline/ref=F379A053B5442C3B0EDFE852C5DB41F2552A341700B348A3CB46AED4518B42263847F3CAC62EB777D3D6BE4FFFD4DEFA5B5342FF665FAFA0k7t9N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onsultantplus://offline/ref=F14D8C4BA5ADB0137EF748B1985B5242E32E2E2DBECAF930E07D6A2749251F4AB4654324805A31F7624BA42C3FB02ABF96BB5163C4EE698154d6H" TargetMode="External"/><Relationship Id="rId2" Type="http://schemas.openxmlformats.org/officeDocument/2006/relationships/hyperlink" Target="consultantplus://offline/ref=B5E8411DDCFD0945EDD7E89256A6FF9E8515726F09BD1005B99DF0086EFBDC30E99EE1A8E9437EEDDA1FC1D06C62210EFB9B3A7B106B406FjDl3H" TargetMode="External"/><Relationship Id="rId3" Type="http://schemas.openxmlformats.org/officeDocument/2006/relationships/hyperlink" Target="consultantplus://offline/ref=5201AD0BC226CB19EB33C20BDC69F4CB2DFB7C1D93F9BCED754DA941FCD16A73CC571BE3CA3F6E8E86B0F6033E4D3CA5004F1FB07AF1D509bCh3H" TargetMode="External"/><Relationship Id="rId4" Type="http://schemas.openxmlformats.org/officeDocument/2006/relationships/hyperlink" Target="consultantplus://offline/ref=96FDAD2F58C6A7078DA46A7E50A2F138BE5BA6A2350D624FCC2D82C788B4C712D28D498A516A633EAA2F197908105FC1E56BCBEEC0254FD2X7qDH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832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СПЕЦИАЛЬНАЯ ОЦЕНК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УСЛОВИЙ ТРУ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Verdana"/>
              </a:rPr>
              <a:t>некоторые особенност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426 ФЗ от 28.12.20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оставитель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главный специалист отдела социальной политики управления социального развития администрации города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А.А. Туркова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8(81850) 3-41-19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trud@koradm.ru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г. Коряжм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92360" y="2202480"/>
            <a:ext cx="720072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на работника воздействуют вредные и (или) опасные производственные факторы, уровни воздействия которых не превышают уровни, установленные нормативами (гигиеническими нормативами) условий труда, а измененное функциональное состояние организма работника восстанавливается во время регламентированного отдыха или к началу следующего рабочего дня (сме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1692360" y="1194840"/>
            <a:ext cx="7200720" cy="91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воздействие на работника вредных и (или) опасных производственных факторов отсутствует или уровни воздействия которых не превышают уровни, установленные нормати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гигиеническими нормативами) условий труда и принятые в качестве безопасных для человека, и создаются предпосылки для поддержания высокого уровня работоспособности рабо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4290480"/>
            <a:ext cx="4968720" cy="4078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одкласс 3.1, подкласс 3.2, подкласс 3.3, подкласс 3.4 (ст. 14 Ф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1773360"/>
            <a:ext cx="360360" cy="1443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446040" y="128880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1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5400000">
            <a:off x="266760" y="226116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2637000"/>
            <a:ext cx="360360" cy="142560"/>
          </a:xfrm>
          <a:custGeom>
            <a:avLst/>
            <a:gdLst>
              <a:gd name="textAreaLeft" fmla="*/ 0 w 360360"/>
              <a:gd name="textAreaRight" fmla="*/ 360720 w 3603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3426840"/>
            <a:ext cx="7200720" cy="5079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воздействия вредных и (или) опасных производственных факторов превышают уровни, установленные нормативами (гигиеническими нормативами) условий труда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4236120" y="-3945240"/>
            <a:ext cx="455760" cy="87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4795200"/>
            <a:ext cx="7211880" cy="19238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на работника воздействуют вредные и (или) опасные производственные факторы, после воздействия которых измененное функциональное состояние организма работника восстанавливается, как правило, при более длительном, чем до начала следующего рабочего дня (смены), прекращении воздействия данных факторов, и увеличивается риск повреждения здоровья на работника воздействуют вредные и (или) опасные производственные факторы, уровни воздействия которых в течение всего рабочего дня (смены) или его части способны создать угрозу жизни работника, а последствия воздействия данных факторов обусловливают высокий риск развития острого профессионального заболевания в период трудов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690120"/>
            <a:ext cx="8642160" cy="4078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четыре класса -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оптимальные, допустимые, вредные и опасные условия тру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59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КЛАССИФИКАЦИЯ УСЛОВИЙ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46040" y="2153880"/>
            <a:ext cx="546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2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552600" y="3126960"/>
            <a:ext cx="332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3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3500280"/>
            <a:ext cx="360360" cy="142920"/>
          </a:xfrm>
          <a:custGeom>
            <a:avLst/>
            <a:gdLst>
              <a:gd name="textAreaLeft" fmla="*/ 0 w 360360"/>
              <a:gd name="textAreaRight" fmla="*/ 360720 w 360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4005360"/>
            <a:ext cx="1871640" cy="215640"/>
          </a:xfrm>
          <a:prstGeom prst="downArrowCallout">
            <a:avLst>
              <a:gd name="adj1" fmla="val 217007"/>
              <a:gd name="adj2" fmla="val 216987"/>
              <a:gd name="adj3" fmla="val 16667"/>
              <a:gd name="adj4" fmla="val 66667"/>
            </a:avLst>
          </a:prstGeom>
          <a:solidFill>
            <a:srgbClr val="ff00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410040" y="5071680"/>
            <a:ext cx="332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Verdana"/>
              </a:rPr>
              <a:t>4 КЛА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445000"/>
            <a:ext cx="360360" cy="142920"/>
          </a:xfrm>
          <a:custGeom>
            <a:avLst/>
            <a:gdLst>
              <a:gd name="textAreaLeft" fmla="*/ 0 w 360360"/>
              <a:gd name="textAreaRight" fmla="*/ 360720 w 360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292720" y="646920"/>
            <a:ext cx="3610080" cy="10144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сведения об организации, проводящей специальную оценку условий труда, с приложением копий документ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устан ст. 19 настоящего Ф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РЕЗУЛЬТАТЫ ПРОВЕДЕНИЯ СОУТ ВКЛЮЧАЮ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3497760"/>
            <a:ext cx="4300560" cy="15199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отокол оценки эффективности применяемых работниками, занятыми на рабочих местах с вредными условиями труда, СИЗ, прошедших обязательную сертификацию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порядке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, установленном техническим регламентом, проводимой в целях снижения класса (подкласса) условий труда (в случае проведения такой оце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18480"/>
            <a:ext cx="3852720" cy="91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еречень рабочих мест, на которых проводилась СОУТ, с указанием вредных и (или) опасных производственных факторов, которые идентифицированы на данных рабочих мес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75160" y="1872000"/>
            <a:ext cx="350856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отокол комиссии, содержащий решение о невозможности проведения исследований (испытаний) и измерений по основанию, указанному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части 9 статьи 12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 (при наличии так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1626480"/>
            <a:ext cx="3902040" cy="91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карты СОУТ, содержащие сведения об установленном экспертом организации, проводящей СОУТ, классе (подклассе) условий труда на конкретных рабочих мес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2060640"/>
            <a:ext cx="1152360" cy="143964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634120"/>
            <a:ext cx="3889440" cy="710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отоколы проведения исследований (испытаний) и измерений идентифицированных вредных и (или) опасных производственных фа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3066480"/>
            <a:ext cx="3600360" cy="91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еречень мероприятий по улучшению условий и охраны труда работников, на рабочих местах которых проводилась специальная оценка условий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5731200"/>
            <a:ext cx="2408040" cy="710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сводная ведомость специальной оценки условий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4073760"/>
            <a:ext cx="3562200" cy="710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заключения эксперта организации, проводящей специальную оценку условий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5155200"/>
            <a:ext cx="413676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замечания и возражения работника относительно результатов СОУТ, проведенной на его рабочем месте, представленные в письменном виде в соответствии с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пунктом 4 части 1 статьи 5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едерального закона (при налич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2720" y="4866120"/>
            <a:ext cx="3562200" cy="710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Отчет о проведении СОУТ должен содержать идентификационный номер, указанный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части 6 статьи 8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164200" y="597600"/>
            <a:ext cx="3740040" cy="20257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Работодатель организует ознакомление работников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результатами проведения СОУТ на их рабочих местах под роспись в срок не 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озднее чем тридцать календарных дней со дня утверждения отчета о проведении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СОУТ. В указанный срок не включаются периоды временной нетрудоспособности работника, нахождения его в отпуске или командировке, периоды междувахтового отды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РЕЗУЛЬТАТЫ ПРОВЕДЕНИЯ СОУ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547200"/>
            <a:ext cx="4176720" cy="24303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Отчет о проведении СОУТ, составленный на бумажном носителе или в форме электронного документа, подписывается всеми членами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комиссии и утверждается председателем комиссии в срок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не позднее чем тридцать календарных дней со дня его направления работодателю организацией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, проводящей СОУТ, путем подписания собственноручной подписью либо усиленной квалифицированной электронной подписью или усиленной неквалифицированной электронной подпис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3440" y="5082120"/>
            <a:ext cx="8872560" cy="16210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Работодатель с учетом требований законодательства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организует размещение на своем официальном са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при наличии такого сайта) сводных данных о результатах проведения СОУТ в части установления классов (подклассов) условий труда на рабочих местах и перечня мероприятий по улучшению условий и охраны труда работников, на рабочих местах которых проводилась СОУТ, в срок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не позднее чем в течение тридцати календарных дней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со дня утверждения отчета о проведении СО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1484280"/>
            <a:ext cx="792000" cy="1440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8000" y="2706120"/>
            <a:ext cx="4249800" cy="23284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Работодатель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в течение трех рабочих дней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со дня утверждения отчета о проведении СОУТ обязан уведомить об этом организацию, проводившую СОУТ, любым доступным способом, обеспечивающим возможность подтверждения факта такого уведомления, а также направить в ее адрес копию утвержденного отчета о проведении СОУТ заказным почтовым отправлением с уведомлением о вручении либо в форме электронного документа, подписанного усиленной квалифицированной электронной подпис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210480"/>
            <a:ext cx="360180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Член комиссии, который не согласен с результатами проведения СОУТ, имеет право изложить в письменной форме мотивированное особое мнение, которое прилагается к этому отче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ВНЕПЛАНОВАЯ СОУ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618120"/>
            <a:ext cx="8631000" cy="12164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ввод в эксплуатацию вновь организованных рабочих мес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изменение технологического процесса, замена производственного оборудования, которые способны оказать влияние на уровень воздействия вредных и (или) опасных производственных факторов на работнико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проводится на соответствующих рабочих местах в течение двенадцати месяцев со дня наступления  указан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4320" y="2107800"/>
            <a:ext cx="8829360" cy="43527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олучение работодател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едписания ГИТ о проведении внеплановой СОУТ в связи с выявленными в ходе проведения федерального государственного контроля (надзора) за соблюдением трудового законодательства и иных нормативных правовых актов, содержащих нормы трудового права, нарушениями требований настоящего Федерального закона или государственных нормативных требований охраны труда, содержащихся в федеральных законах и иных нормативных правовых актах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изменение состава применяемых материалов и (или) сырья, способных оказать влияние на уровень воздействия вредных и (или) опасных производственных факторов на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изменение применяемых СИЗ и коллективной защиты, способное оказать влияние на уровень воздействия вредных и (или) опасных производственных факторов на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произошедший на рабочем месте несчастный случай на производстве (за исключением несчастного случая на производстве, произошедшего по вине третьих лиц) или выявленное профессиональное заболевание, причинами которых явилось воздействие на работника вредных и (или) опасных производственных фак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наличие мотивированных предложений выборных органов первичных профсоюзных организаций или иного представительного органа работников о проведении внеплановой СОУТ, в том числе подготовленных по замечаниям и возражениям работника относительно результатов СОУТ, проведенной на его рабочем месте, представленных в соответствии с пунктом 4 части 1 статьи 5 настоящего Федерального закона в письменном виде в выборный орган первичной профсоюзной организации или иной представительный орган раб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роводится течение шести месяцев со дня наступления данных случ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ОУТ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050120"/>
            <a:ext cx="8474040" cy="7117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ебования к организации , проводящей СОУТ – указаны в ст. 19 -23 настоящего 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2418480"/>
            <a:ext cx="8474040" cy="7117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Требования к экспертизе качества  СОУТ – указаны в ст. 24 настоящего 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3960" y="3503520"/>
            <a:ext cx="8553600" cy="28350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Разногласия по вопросам проведения СОУТ, несогласие работника с результатами проведения СОУТ на его рабочем месте, а также жалобы работодателя на действия (бездействие) организации, проводящей СОУТ, рассматриваются федеральным органом исполнительной власти, уполномоченным на проведение федерального государственного контроля (надзора) за соблюдением трудового законодательства и иных нормативных правовых актов, содержащих нормы трудового права, и его территориальными органами, решения которых могут быть обжалованы в судебном поряд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СПЕЦИАЛЬНАЯ ОЦЕНКА УСЛОВИЙ ТРУДА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322200" y="769680"/>
            <a:ext cx="509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763920"/>
            <a:ext cx="7565760" cy="22316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диный комплекс последовательно осуществляемых мероприятий по идентификации вредных и (или) опасных факторов производственной среды и трудового процесса и оценке уровня их воздействия на работника с учетом отклонения их фактических значений от установленных уполномоченным Правительством РФ федеральным органом исполнительной власти норма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условий труда и применения СИЗ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210840"/>
            <a:ext cx="7489800" cy="10155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 результатам пр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станавлива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классы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 (подклассы) условий труда на рабочих мес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4506840"/>
            <a:ext cx="7561440" cy="19278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 проводится в отношении условий труда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надомник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дистанционных работник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и работников, вступивших в трудовые отношения с работодателями - физическими лицами, не являющимися индивидуальными предпринимателями, или с работодателями - религиозными организац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92360" y="906120"/>
            <a:ext cx="7127640" cy="6433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обеспечить проведение специальной оценки условий труда, в том числе внеплановой специальной оценки условий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1679400" y="1847520"/>
            <a:ext cx="7140600" cy="22611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предоставить организации, проводящей СОУТ, необходимые сведения, документы и информацию, которые предусмотрены ГПД, указанным в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части 2 статьи 8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  настоящего закона и которые характеризуют условия труда на рабочих местах, а также разъяснения по вопросам проведения СОУТ и предложения работников по осуществлению на их рабочих местах идентификации потенциально вредных и (или) опасных производственных факторов (при наличии таких предложений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89120" y="5840280"/>
            <a:ext cx="7203960" cy="6433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ознакомить в письменной форме работника с результатами проведения СОУТ на его рабочем 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365720"/>
            <a:ext cx="7200720" cy="118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не предпринимать каких бы то ни было преднамеренных действий, направленных на сужение круга вопросов, подлежащих выяснению при проведении СОУТ и влияющих на результаты ее пр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194400" y="118152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119700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93680" y="276516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5400000">
            <a:off x="50760" y="463752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472428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602136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5400000">
            <a:off x="88200" y="589572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85264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19280" y="906120"/>
            <a:ext cx="7108920" cy="6433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давать работнику необходимые разъяснения по вопросам проведения СУОТ на его рабочем 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1758960" y="2657880"/>
            <a:ext cx="7061040" cy="6433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реализовывать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мероприятия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, направленные на улучшение условий труда работников, с учетом результатов проведения СО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1040" y="4086360"/>
            <a:ext cx="7081920" cy="14526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ссмотреть замечания и возражения работника относительно результатов СОУТ, представленные в письменном виде в соответствии с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п 4 ч 1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т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5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настоящего ФЗ, и принять решение о проведении в случае необходимости внеплановой СО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94400" y="118152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19700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93680" y="276516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50760" y="463752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72428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2852640"/>
            <a:ext cx="720720" cy="216000"/>
          </a:xfrm>
          <a:custGeom>
            <a:avLst/>
            <a:gdLst>
              <a:gd name="textAreaLeft" fmla="*/ 0 w 720720"/>
              <a:gd name="textAreaRight" fmla="*/ 721080 w 72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33336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43718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43718"/>
                </a:solidFill>
                <a:latin typeface="Verdana"/>
              </a:rPr>
              <a:t>права работника при со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343600"/>
            <a:ext cx="3494160" cy="317412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обращаться к работодателю, его представителю, организации, проводящей СОУТ, эксперту организации, проводящей СОУТ  с предложениями по осуществлению на его рабочем месте идентификации потенциально вредных и (или) опасных производственных факторов и за получением разъяснений по вопросам проведения СОУТ на его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2258280" y="-376560"/>
            <a:ext cx="667800" cy="4248000"/>
          </a:xfrm>
          <a:prstGeom prst="rect">
            <a:avLst/>
          </a:prstGeom>
          <a:solidFill>
            <a:srgbClr val="339966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присутствовать при проведении СОУТ на его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11560" y="1390680"/>
            <a:ext cx="3802320" cy="57636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обжаловать результаты проведения СОУТ на его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2708280"/>
            <a:ext cx="1223640" cy="144000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1547280" y="5734800"/>
            <a:ext cx="6480360" cy="889560"/>
          </a:xfrm>
          <a:prstGeom prst="wedgeRoundRectCallout">
            <a:avLst>
              <a:gd name="adj1" fmla="val -2731"/>
              <a:gd name="adj2" fmla="val 146236"/>
              <a:gd name="adj3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Работник обязан ознакомиться с результатами проведенной на его рабочем месте специальной оценки условий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2416320"/>
            <a:ext cx="3853080" cy="2465640"/>
          </a:xfrm>
          <a:prstGeom prst="roundRect">
            <a:avLst>
              <a:gd name="adj" fmla="val 16667"/>
            </a:avLst>
          </a:prstGeom>
          <a:solidFill>
            <a:srgbClr val="339966">
              <a:alpha val="49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представлять работодателю, организации, проводящей СОУТ, и  в выборный орган первичной профсоюзной организации или иного представительного органа работников (при наличии) в письменном виде замечания и возражения относительно результатов СОУТ,  проведенной на его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92360" y="1705680"/>
            <a:ext cx="7200720" cy="12848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формирования работников об условиях труда на рабочих местах, о существующем риске повреждения их здоровья, о мерах по защите от воздействия вредных и (или) опасных производственных факторов и о полагающихся работникам, занятым на работах с вредными и (или) опасными условиями труда, гарантиях и компенсац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833400"/>
            <a:ext cx="7200720" cy="5763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азработки и реализации мероприятий, направленных на улучшение условий труда рабо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3209760"/>
            <a:ext cx="7196040" cy="3402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беспечения работников СИЗ, а также оснащения рабочих мест СК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5600" y="3732120"/>
            <a:ext cx="7196040" cy="3402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существления контроля за состоянием условий труда на рабочих мес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217760"/>
            <a:ext cx="7200720" cy="3402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становления работникам предусмотренных ТК РФ гарантий и компенс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 rot="5400000">
            <a:off x="194400" y="1036080"/>
            <a:ext cx="546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2276640"/>
            <a:ext cx="720720" cy="1425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22040" y="2117160"/>
            <a:ext cx="546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125360"/>
            <a:ext cx="720720" cy="14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 rot="5400000">
            <a:off x="193680" y="3124800"/>
            <a:ext cx="546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284640"/>
            <a:ext cx="719280" cy="144360"/>
          </a:xfrm>
          <a:custGeom>
            <a:avLst/>
            <a:gdLst>
              <a:gd name="textAreaLeft" fmla="*/ 0 w 719280"/>
              <a:gd name="textAreaRight" fmla="*/ 719640 w 719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 rot="5400000">
            <a:off x="155520" y="3667680"/>
            <a:ext cx="546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860640"/>
            <a:ext cx="719280" cy="144720"/>
          </a:xfrm>
          <a:custGeom>
            <a:avLst/>
            <a:gdLst>
              <a:gd name="textAreaLeft" fmla="*/ 0 w 719280"/>
              <a:gd name="textAreaRight" fmla="*/ 719640 w 7192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5400000">
            <a:off x="230760" y="488772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365720"/>
            <a:ext cx="720720" cy="1429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03520" y="4838760"/>
            <a:ext cx="7189560" cy="57636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становления дополнительного тарифа страховых взносов в ФПСС РФ с учетом класса (подкласса) условий труда на рабочем мес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5084640"/>
            <a:ext cx="720720" cy="142920"/>
          </a:xfrm>
          <a:custGeom>
            <a:avLst/>
            <a:gdLst>
              <a:gd name="textAreaLeft" fmla="*/ 0 w 720720"/>
              <a:gd name="textAreaRight" fmla="*/ 721080 w 720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5400000">
            <a:off x="230760" y="4239720"/>
            <a:ext cx="54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4160520" y="-3870000"/>
            <a:ext cx="606960" cy="87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3718"/>
                </a:solidFill>
                <a:latin typeface="Verdana"/>
              </a:rPr>
              <a:t>ПРИМЕНЕНИЕ РЕЗУЛЬТАТОВ СОУ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5676840"/>
            <a:ext cx="7200720" cy="3402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управления профессиональными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рис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5734080"/>
            <a:ext cx="792000" cy="14436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5400000">
            <a:off x="195120" y="5571000"/>
            <a:ext cx="546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6235200"/>
            <a:ext cx="7221600" cy="4078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ые цели, ст. 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6381720"/>
            <a:ext cx="720720" cy="144360"/>
          </a:xfrm>
          <a:custGeom>
            <a:avLst/>
            <a:gdLst>
              <a:gd name="textAreaLeft" fmla="*/ 0 w 720720"/>
              <a:gd name="textAreaRight" fmla="*/ 721080 w 720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5400000">
            <a:off x="159480" y="6184440"/>
            <a:ext cx="5461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2345760"/>
            <a:ext cx="8620200" cy="10486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На рабочих местах, указанных в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части 1 статьи 11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, в отношении которых действует декларация соответствия условий труда государственным нормативным требованиям охраны труда, повторное проведение СОУТ не требуется до наступления обстоятельств, установленных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частью 5 статьи 11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263520" y="880200"/>
            <a:ext cx="8618400" cy="12848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СОУТ  на рабочем месте проводится не реже чем один раз в пять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Указанный срок исчисляется со дня внесения сведений о результатах проведен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СОУТ в информационную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истему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учета в порядке, установленном настоящим ФЗ, а в отношении результатов проведения СОУТ, содержащих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сведения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, составляющие государственную или иную охраняемую законом тайну, со дня утверждения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отчета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о проведении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СО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160520" y="-3863520"/>
            <a:ext cx="606960" cy="87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371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43718"/>
                </a:solidFill>
                <a:latin typeface="Verdana"/>
              </a:rPr>
              <a:t>СОУТ  ПРОВ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120" y="3625920"/>
            <a:ext cx="8699760" cy="28357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Организация, проводящая СОУТ, до начала выполнения работ по проведению СОУТ, но не позднее чем через пять рабочих дней со дня заключения с работодателем ГПД о проведении СОУТ обязана передать в информационную систему учета сведения, указанные в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подпунктах "а"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,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"в"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и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"в.1" пункта 1 части 2 статьи 18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, и получить для предстоящей СОУТ идентификационный номер, который присваивается информационной системой учета в автоматическом режиме в порядке, установленном в соответствии с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частью 7 статьи 18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Организация, проводящая СОУТ, обязана сообщить указанный идентификационный номер работодателю до начала выполнения работ по проведению СО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27280" y="833400"/>
            <a:ext cx="4178160" cy="8125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число чле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должно быть нечетным, а также утверждается график проведения СО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КОМИССИЯ ПО ПРОВЕДЕНИЮ СОУТ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1912320"/>
            <a:ext cx="3511440" cy="8125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Комиссию возглавляет работодатель или его представ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841760"/>
            <a:ext cx="4100400" cy="13525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 состав комиссии включаются представители работодателя, в том числе СОТ, представители выборного органа первичной профсоюзной организации или (при налич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064680"/>
            <a:ext cx="3322440" cy="152100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Комиссия до начала выполнения работ по проведению СОУТ утверждает перечень рабочих мест, на которых будет проводиться СОУТ, с указанием аналогичных рабочих м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570120"/>
            <a:ext cx="4033800" cy="81252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Состав и порядок деятельности комиссии утверждаются приказом (распоряжением) работо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708280"/>
            <a:ext cx="1152720" cy="14400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35160" y="4844880"/>
            <a:ext cx="7030800" cy="15886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 отношении рабочих мест в организациях, осуществляющих отдельные виды деятельности, а также в случае, если выполнение работ по проведению СОУТ создает или может создать угрозу жизни или здоровью работника, членов комиссии, иных лиц, СОУТ проводится с учетом особенностей, установленных федеральным органом исполнительной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690120"/>
            <a:ext cx="8785440" cy="131724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В отношении рабочих мест, на которых вредные и (или) опасные производственные факторы по результатам осуществления идентификации не выявлены, а также условия труда на которых по результатам исследований (испытаний) и измерений вредных и (или) опасных производственных факторов признаны оптимальными или допустимыми, за исключением рабочих мест, указанных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части 6 статьи 10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настоящего ФЗ работодателем подается в ГИТ  по месту своего нахождения декларация соответствия условий труда государственным нормативным требованиям охраны труда (далее  - декларация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ДЕКЛАРИРОВАНИЕ СООТВЕТСВТИЯ УСЛОВИЙ ТРУДА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2163960"/>
            <a:ext cx="3781440" cy="4569840"/>
          </a:xfrm>
          <a:custGeom>
            <a:avLst/>
            <a:gdLst>
              <a:gd name="textAreaLeft" fmla="*/ 184320 w 3781440"/>
              <a:gd name="textAreaRight" fmla="*/ 3597120 w 3781440"/>
              <a:gd name="textAreaTop" fmla="*/ 184320 h 4569840"/>
              <a:gd name="textAreaBottom" fmla="*/ 4385520 h 4569840"/>
            </a:gdLst>
            <a:ahLst/>
            <a:rect l="textAreaLeft" t="textAreaTop" r="textAreaRight" b="textAreaBottom"/>
            <a:pathLst>
              <a:path w="21600" h="26103">
                <a:moveTo>
                  <a:pt x="3600" y="0"/>
                </a:moveTo>
                <a:arcTo wR="3600" hR="3600" stAng="16200000" swAng="-5400000"/>
                <a:lnTo>
                  <a:pt x="0" y="22503"/>
                </a:lnTo>
                <a:arcTo wR="3600" hR="3600" stAng="10800000" swAng="-5400000"/>
                <a:lnTo>
                  <a:pt x="18000" y="261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В случае, если с работником, занятым на рабочем месте, в отношении которого принята декла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роизошел Н/сл на производстве (за исключением Н/сл на производстве, произошедшего по вине третьих лиц) или у него труда. выявлено профессиональное заболевание, причиной которых явилось воздействие на работника вредных и (или) опасных производственных факторов, либо в отношении работника и (или) на его рабочем месте выявлены в ходе проведения ФГК (надзора) нарушения государственных нормативных требований охраны труда, содержащихся в федеральных законах и иных нормативных правовых актах РФ, в отношении такого рабочего места действие данной декларации прекращается и проводится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внеплановая 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СОУТ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2202480"/>
            <a:ext cx="4125960" cy="16210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ГИТ обеспечивает формирование и ведение реестра деклараций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порядке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, установленном федеральным органом исполнительной власти, осуществляющим функции по выработке и реализации государственной политики и нормативно-правовому регулированию в сфер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3931560"/>
            <a:ext cx="4054320" cy="10144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Декла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является бессрочной в случае сохранения условий труда на соответствующем рабоч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3500280"/>
            <a:ext cx="936720" cy="1440000"/>
          </a:xfrm>
          <a:custGeom>
            <a:avLst/>
            <a:gdLst>
              <a:gd name="textAreaLeft" fmla="*/ 0 w 936720"/>
              <a:gd name="textAreaRight" fmla="*/ 937080 w 9367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5297760"/>
            <a:ext cx="5040360" cy="1115280"/>
          </a:xfrm>
          <a:prstGeom prst="roundRect">
            <a:avLst>
              <a:gd name="adj" fmla="val 16667"/>
            </a:avLst>
          </a:prstGeom>
          <a:solidFill>
            <a:srgbClr val="339966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Решение о прекращении действия декла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ринимается ГИТ о чем в срок не позднее чем в течение 10 календарных дней со дня наступления указанных в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части 5</a:t>
            </a:r>
            <a:r>
              <a:rPr b="0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 ст. 11 ФЗ обстоятельств делается соответствующая запись в реестре декла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12:47:27Z</dcterms:created>
  <dc:creator>User</dc:creator>
  <dc:description/>
  <dc:language>en-US</dc:language>
  <cp:lastModifiedBy>trud</cp:lastModifiedBy>
  <dcterms:modified xsi:type="dcterms:W3CDTF">2023-08-29T09:28:43Z</dcterms:modified>
  <cp:revision>48</cp:revision>
  <dc:subject/>
  <dc:title>Организация службы охраны труда на предприятии</dc:title>
</cp:coreProperties>
</file>