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B83-1278-461D-87C1-12B841CC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365-8386-444A-8044-96342E15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561-3C0E-44C1-8336-2CB7133F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117-FB61-409F-B8C4-8F4DBD76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3E65-CFBE-4EDE-B914-E49AE036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30FC-3789-47E6-AD6C-438BDBF4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C205-0B99-49BA-B36A-98EC7915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E519-01CB-41F8-9FD8-97DED868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545A-4721-4E53-BA64-59D09458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9B8D-DFA1-4750-84FF-ECB09429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614C-44A4-4C50-911F-DD3D77AF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653-B576-4360-850E-076C8330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FD93-2E87-4640-BAEE-7ACB3FC6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DDB0-AE11-4838-AB25-6A8B8ACD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54DF-8552-4A20-841A-FA187DBE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ABE7-CA55-4478-AC44-0CEF0214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649D-FC38-41AB-A2AD-56CA8B39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A64-766C-477B-846F-CF20CF58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09E-F6CF-49BB-945F-1C45F46D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9F6-31D1-4942-A421-CA2354D4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645-D58A-4928-ADEF-36465B18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E2F-E882-4D5B-B88A-2BDE389A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0CA-A34B-4DC5-B07D-882C0AE3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E35-0C65-4AD8-A1CC-BF6D7C83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0397-C480-48C9-B316-04811113FC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EEDA-1DF2-400E-B5DB-2370994D05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4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Verdana"/>
              </a:rPr>
              <a:t>ОСНОВНЫЕ ТРЕБОВАНИЯ К ПОРЯДКУ РАЗРАБОТКИ И СОДЕРЖАНИЮ ПРАВИЛ И ИНСТРУКЦИЙ ПО ОХРАНЕ ТРУДА, РАЗРАБАТЫВАЕМЫХ РАБОТОДА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43718"/>
                </a:solidFill>
                <a:uFillTx/>
                <a:latin typeface="Verdana"/>
              </a:rPr>
              <a:t>ПРИКАЗ МИНТРУДА РФ ОТ 29.10.2021 № 772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 схемах и таблиц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главный специалист отдела социальной политики управления социального развития администрации города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Arial"/>
              </a:rPr>
              <a:t>А.А. Туркова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Arial"/>
              </a:rPr>
              <a:t>8(81850) 3-41-19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trud@koradm.ru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Arial"/>
              </a:rPr>
              <a:t>г. Коряжма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476280"/>
            <a:ext cx="73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c0e2c"/>
                </a:solidFill>
                <a:latin typeface="Garamond"/>
              </a:rPr>
              <a:t>ОБЩИЕ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324000" y="979200"/>
            <a:ext cx="50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1410120"/>
            <a:ext cx="7047000" cy="71064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РАЗРАБАТЫВАЕТ ПРАВИЛА И ИНСТРУКЦИИ ПО ОХРАНЕ ТРУДА В ЦЕЛЯХ ОБЕСПЕЧЕНИЯ БЕЗОПАСНОСТИ ТРУДА И СОХРАНЕНИЯ ЖИЗНИ ЗДОРОВЬЯ РАБОТНИКОВ  ПРИ ВЫПОЛНЕНИИ ИМИ СВОИХ ТРУДОВЫ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664000"/>
            <a:ext cx="7157880" cy="9126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В ЗАВИСИМОСТИ ОТ СПЕЦИФИКИ СВОЕЙ ДЕЯТЕЛЬНОСТИ И ИСХОДЯ ИЗ ОЦЕНКИ УРОВНЕЙ ПРОФЕССИОНАЛЬНЫХ РИСКОВ  ВПРАВЕ УСТАНАВЛИВАТЬ В ПРАВИЛАХ И ИНСТРУКЦИЯХ ПО ОХРАНЕ ТРУДА ДОПОЛНИТЕЛЬНЫЕ ТРЕБОВАНИЯ БЕЗОПАСНОСТИ, НЕ ПРОТИВОРЕЧАЩИЕ ГОСУДАРСТВЕННЫМ НОРМАТИВНЫМ ТРЕБОВАНИЯМ ОХРАНЫ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04960" y="4297680"/>
            <a:ext cx="7188120" cy="71064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УТВЕРЖДАЕТ ПРАВИЛА (СТАНДАРТЫ) И ИНСТРУКЦИИ ПО ОХРАНЕ ТРУДА ДЛЯ РАБОТНИКОВ С УЧЕТОМ МНЕНИЯ ВЫБОРНОГО ОРГАНА ПЕРВИЧНОЙ ПРОФСОЮЗНОЙ ОРГАНИЗАЦИИ (ПРИ НАЛИЧИИ) В СООТВЕТСВТИИ СО СТ. 372 ТК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5587560"/>
            <a:ext cx="7129440" cy="50796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ОПРЕДЕЛЯЕТ  ПЕРЕЧЕНЬ (СТАНДАРТОВ) И ИНСТРУКЦИЙ ПО ОХРАНЕ ТРУДА В СООТВЕТСТВИИ СО СПЕЦИФИКОЙ СВОЕ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381200" y="-3438000"/>
            <a:ext cx="454680" cy="79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0e2c"/>
                </a:solidFill>
                <a:latin typeface="Arial"/>
              </a:rPr>
              <a:t>РАЗРАБОТКА И СОДЕРЖАНИЕ ПРАВИЛ ПО ОХРАНЕ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1049760"/>
            <a:ext cx="7428240" cy="509400"/>
          </a:xfrm>
          <a:prstGeom prst="roundRect">
            <a:avLst>
              <a:gd name="adj" fmla="val 16667"/>
            </a:avLst>
          </a:prstGeom>
          <a:solidFill>
            <a:srgbClr val="3333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АВИЛА ВКЛЮЧАЮТ ГЛА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1563120" y="1182600"/>
            <a:ext cx="545400" cy="244944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ОБЩИЕ 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1740960" y="1363680"/>
            <a:ext cx="910440" cy="403380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ТРЕБОВАНИЯ ОХРАНЫ ТРУДА РАБОТНИКОВ ПРИ ОРГАНИЗАЦИИ И ПРОВЕДЕНИИ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1193400" y="3195720"/>
            <a:ext cx="2005560" cy="403380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ТРЕБОВАНИЯ, ПРЕДЪВЛЯЕМЫЕ К ПРОИЗВОДСТВЕННЫМ ПОМЕЩЕНИЯМ И ПРОИЗВОДСТВЕННЫМ ПЛОЩАДКАМ (ДЛЯ ПРОЦЕССОВ, ВЫПОЛНЯЕМЫХ ВНЕ ПРОИЗВОДСТВЕННЫХ ПОМЕЩЕНИЙ), В ЦЕЛЯХ ОБЕСПЕЧЕНИЯ ОХРАНЫ ТРУДА РАБОТ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3625400">
            <a:off x="3992760" y="1486080"/>
            <a:ext cx="1081080" cy="1365120"/>
          </a:xfrm>
          <a:custGeom>
            <a:avLst/>
            <a:gdLst>
              <a:gd name="textAreaLeft" fmla="*/ 310320 w 1081080"/>
              <a:gd name="textAreaRight" fmla="*/ 925920 w 1081080"/>
              <a:gd name="textAreaTop" fmla="*/ 786240 h 1365120"/>
              <a:gd name="textAreaBottom" fmla="*/ 1169280 h 1365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10080" y="1073880"/>
            <a:ext cx="1640520" cy="367524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ТРЕБ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ПРЕДЪЯВЛЯЕМЫЕ К ОБОРУДОВАНИЮ, ЕГО РАЗМЕЩЕНИЮ И ОРГАНИЗАЦИИ РАБОЧИХ МЕСТ В ЦЕЛЯХ ОБЕСПЕЧЕНИЯ ОХРАНЫ ТРУДА РАБОТ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5855040" y="3257640"/>
            <a:ext cx="2188080" cy="403380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ТРЕБОВАНИЯ, ПРЕДЪЯВЛЯЕМЫЕ К ХРАНЕНИЮ И ТРАНСПОРТИРОВКЕ ИСХОДНЫХ МАТЕРИАЛОВ, ЗАГОТОВОК, ПОЛУФАБРИКАТОВ , ГОТОВОЙ ПРОДУКЦИИ И ОТХОДОВ ПРОИЗВОДСТВА В ЦЕЛЯХ ОБЕСПЕЧЕНИЯ ОХРАНЫ ТРУДА РАБОТ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 rot="5400000">
            <a:off x="337320" y="245880"/>
            <a:ext cx="546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785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8c0e2c"/>
                </a:solidFill>
                <a:latin typeface="Garamond"/>
              </a:rPr>
              <a:t>РАЗРАБОТКА И СОДЕРЖАНИЕ ПРАВИЛ </a:t>
            </a:r>
            <a:br>
              <a:rPr sz="2400"/>
            </a:br>
            <a:r>
              <a:rPr b="1" lang="en-US" sz="2400" spc="-1" strike="noStrike">
                <a:solidFill>
                  <a:srgbClr val="8c0e2c"/>
                </a:solidFill>
                <a:latin typeface="Garamond"/>
              </a:rPr>
              <a:t>ПО ОХРАНЕ ТРУДА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320760" y="1277640"/>
            <a:ext cx="512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1123200"/>
            <a:ext cx="7273800" cy="50796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ПРАВИЛА ПО ОХРАНЕ ТРУДА МОГУТ БЫТЬ КАК СТАНДАРТ ОРГАНИЗАЦИИ, ИЛИ ИНОЙ ЛОКАЛЬНЫЙ НОРМАТИВНЫ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1770480"/>
            <a:ext cx="7200720" cy="3060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ДЕЙСТВУЮТ В ПРЕДЕЛАХ ДАН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28640" y="2302200"/>
            <a:ext cx="7253280" cy="71064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РАЗРАБОТКА ОСУЩЕСТВЛЯЕТСЯ НА ОСНОВЕ АНАЛИЗА СОСТОЯНИЯ И ПРИЧИН ПРОИЗВОДСТВЕННОГО ТРАВМАТИЗМА, ПРОФЕССИОНАЛЬНЫХ ЗАБОЛЕВАНИЙ, А ТАКЖЕ РЕЗУЛЬТАТОВ СОУТ И  ОЦЕНКИ ПРОФЕССИОНАЛЬНЫХ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3311640"/>
            <a:ext cx="7127640" cy="111528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ДОЛЖНЫ ИМЕТЬ ЛИСТ СОГЛАСОВАНИЯ, КОТОРЫЙ ПОДПИСЫВАЕТСЯ РАЗРАБОТЧИКОМ (ПРЕДСТАВИТЕЛЯМИ УЧАСТНИКОВ РАЗРАБОТКИ), РУКОВОДИТЕЛЕМ ЮРИДИЧЕСКОЙ СЛУЖБЫ (ПРИ НАЛИЧИИ), РУКОВОДИТЕЛЕМ СЛУЖБЫ ОХРАНЫ ТРУДА (ПРИ ЕГО ОТСУТТСВИИ – ЛИЦОМ, ВЫПОЛНЯЮЩИМ ФУНКЦИИ СОТА), ЛИЦОМ ОТВЕТСТВЕННЫМ ЗА РАЗРАБОТКУ ПРАВ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650120"/>
            <a:ext cx="7200720" cy="3060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РАБОТОДАТЕЛЬ ВПРАВЕ РАСШИРИТЬ КРУГ ЛИЦ, СОГЛАСУЮЩИХ ПР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5283720"/>
            <a:ext cx="7145280" cy="111528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ПРИ НЕОБХОДИМОСТИ МОГУТ СОДЕРЖАТЬ ТРЕБОВАНИЯ ИЛИ ССЫЛКУ НА ТРЕБОВАНИЕ СТАНДАРТОВ БЕЗОПАСНОСТИ ТРУДА, ГОСУДАРСТВЕННЫХ САНИТАРНО – ЭПИДЕМИОЛОГИЧЕСКИХ ПРАВИЛ И НОРМАТИВОВ, УСТАНАВЛИВАЮЩИХ ТРЕБОВАНИЯ К ФАКТОРАМ РАБОЧЕЙ СРЕДЫ И ТРУДОВОГО ПРОЦЕССА, ПРАВИЛ И НОРМ БЕЗОПАСНОСТИ, НПА, СОДЕРЖАЩИХ ГОСУДАРСТВЕННЫЕ И НОРМАТИВНЫЕ ТРЕБОВАНИЯ ОХРАНЫ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8c0e2c"/>
                </a:solidFill>
                <a:latin typeface="Garamond"/>
              </a:rPr>
              <a:t>РАЗРАБОТКА И СОДЕРЖАНИЕ ИНСТРУКЦИЙ </a:t>
            </a:r>
            <a:br>
              <a:rPr sz="2400"/>
            </a:br>
            <a:r>
              <a:rPr b="1" lang="en-US" sz="2400" spc="-1" strike="noStrike">
                <a:solidFill>
                  <a:srgbClr val="8c0e2c"/>
                </a:solidFill>
                <a:latin typeface="Garamond"/>
              </a:rPr>
              <a:t>ПО ОХРАНЕ ТРУДА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324000" y="824760"/>
            <a:ext cx="51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67000" y="1123560"/>
            <a:ext cx="7107120" cy="50868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РАЗРАБАТЫВАЕТСЯ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ИСХОДЯ ИЗ ДОЛЖНОСТИ ИЛИ ПРОФЕССИИ РАБОТНИКА, НАПРАВЛЕНИЯ ТРУДОВОЙ ДЕЯТЕЛЬНОСТИ ИЛИ ВИДА ВЫПОЛНЯЕМ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69880" y="1949400"/>
            <a:ext cx="7182000" cy="74484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РАЗРАБОТКА ОСУЩЕСТВЛЯЕТЯ НА ОСНОВЕ УСТАНОВЛЕННЫХ ГОСУДАРСТВЕННЫХ НОРМАТИВНЫХ ТРЕБОВАНИЙ ОХРАНЫ ТРУДА И ТРЕБОВАНИЙ РАЗРАБОТАННЫХ РАБОТОДАТЕЛЕМ ПРАВИЛ (ПРИ НАЛИЧИИ), А ТАКЖ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2921760"/>
            <a:ext cx="7086600" cy="60984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АНАЛИЗА ТРУДОВОЙ ФУНКЦИИ РАБОТНИКОВ ПО ПРОФЕССИИ, ДОЛЖНОСТИ, ВИДУ И СОСТАВУ ВЫПОЛНЯЕМОЙ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50880" y="3765600"/>
            <a:ext cx="7053480" cy="9126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РЕЗУЛЬТАТОВ СПЕЦИАЛЬНОЙ ОЦЕНКИ УСЛОВИЙ ТРУДА НА КОНКРЕТНЫХ РАБОЧИХ МЕСТАХ ДЛЯ СООТВЕТСТВУЮЩЕЙ ДОЛЖНОСТИ, ПРОФЕССИИ, В ТОМ ЧИСЛЕ ОПРЕДЕЛЕНИЯ ВРЕДНЫХ ПРОИЗВОДСТВЕННЫХ ФАКТОРОВ, ХАРАКТЕРНЫХ ДЛЯ РАБОТ, ВЫПОЛНЯЕМЫХ РАБОТНИКАМИ СООТВЕТСТВУЮЩЕЙ ДОЛЖНОСТИ, ПРОФЕССИ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5040360"/>
            <a:ext cx="6977160" cy="30600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АНАЛИЗА ТРЕБОВАНИЙ СООТВЕТСТВУЮЩИХ ПРОФЕССИОНАЛЬНЫХ СТАНДАР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5832000"/>
            <a:ext cx="6923160" cy="50868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ОПРЕДЕЛЕНИЯ ПРОФЕССИОНАЛЬНЫХ РИСКОВ И ОПАСНОСТЕЙ, ХАРАКТЕРНЫХ  ДЛЯ РАБОТ, ВЫПОЛНЯЕМЫХ РАБОТНИКАМИ СООТВЕТСТВУЮЩЕЙ ДОЛЖНОСТИ, ПРОФЕССИИ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8075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8c0e2c"/>
                </a:solidFill>
                <a:latin typeface="Garamond"/>
              </a:rPr>
              <a:t>РАЗРАБОТКА И СОДЕРЖАНИЕ ИНСТРУКЦИЙ </a:t>
            </a:r>
            <a:br>
              <a:rPr sz="2400"/>
            </a:br>
            <a:r>
              <a:rPr b="1" lang="en-US" sz="2400" spc="-1" strike="noStrike">
                <a:solidFill>
                  <a:srgbClr val="8c0e2c"/>
                </a:solidFill>
                <a:latin typeface="Garamond"/>
              </a:rPr>
              <a:t>ПО ОХРАНЕ ТРУДА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324000" y="824760"/>
            <a:ext cx="51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1474920"/>
            <a:ext cx="7053480" cy="71064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АНАЛИЗА РЕЗУЛЬТАТОВ РАССЛЕДОВАНИЯ НЕСЧАСТНЫХ СЛУЧАЕВ, А ТАКЖЕ ТИПИЧНЫХ ПРИЧИН НЕСЧАСТНЫХ СЛУЧАЕВ НА ПРОИЗВОДСТВЕ И ПРОФЕССИОНАЛЬНЫХ ЗАБОЛЕВАНИЙ ДЛЯ СООТВЕТСТВУЮЩИХ ДОЛЖНОСТЕЙ, ПРОФЕССИЙ, ВИДОВ РАБ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2921040"/>
            <a:ext cx="6985080" cy="57636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ОПРЕДЕЛЕНИЯ БЕЗОПАСНЫХ МЕТОДОВ И ПРИЕМОВ ВЫПОЛНЕНИЯ ТРУДОВЫХ ФУНКЦИЙ И РА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4248360"/>
            <a:ext cx="6931080" cy="111528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УЧИТЫВАЕТ ТРЕБОВАНИЯ БЕЗОПАСНОСТИ, ИЗЛОЖЕННЫЕ В ЭКСПЛУАТАЦИОННОЙ И РЕМОНТНОЙ ДОКУМЕНТАЦИИ   ОРГАНИЗАЦИЙ – ИЗГОТОВИТЕЛЕЙ ОБОРУДОВАНИЯ, А ТАКЖЕ В ТЕХНОЛОГИЧЕСКОЙ ДОКУМЕНТАЦИИ ОРГАНИЗАЦИИ С УЧЕТОМ КОНКРЕТНЫХ УСЛОВИЙ ПРОИЗВОДСТВА, ПРИМЕНИТЕЛЬНО К ДОЛЖНОСТИ, ПРОФЕССИИ РАБОТНИКА  ИЛИ ВИДУ ВЫПОЛНЯЕМОЙ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075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8c0e2c"/>
                </a:solidFill>
                <a:latin typeface="Verdana"/>
              </a:rPr>
              <a:t>РАЗРАБОТКА И СОДЕРЖАНИЕ ИНСТРУКЦИЙ </a:t>
            </a:r>
            <a:br>
              <a:rPr sz="2000"/>
            </a:br>
            <a:r>
              <a:rPr b="1" lang="en-US" sz="2000" spc="-1" strike="noStrike">
                <a:solidFill>
                  <a:srgbClr val="8c0e2c"/>
                </a:solidFill>
                <a:latin typeface="Verdana"/>
              </a:rPr>
              <a:t>ПО ОХРАНЕ ТРУДА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1168560" y="1352880"/>
            <a:ext cx="7467480" cy="914040"/>
          </a:xfrm>
          <a:prstGeom prst="roundRect">
            <a:avLst>
              <a:gd name="adj" fmla="val 16667"/>
            </a:avLst>
          </a:prstGeom>
          <a:solidFill>
            <a:srgbClr val="333399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 ИНСТРУКЦИИ ПО ОХРАНЕ ТРУДА ВКЛЮЧАЮТСЯ РАЗД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3625400">
            <a:off x="3921480" y="2278440"/>
            <a:ext cx="1081080" cy="1365120"/>
          </a:xfrm>
          <a:custGeom>
            <a:avLst/>
            <a:gdLst>
              <a:gd name="textAreaLeft" fmla="*/ 310320 w 1081080"/>
              <a:gd name="textAreaRight" fmla="*/ 925920 w 1081080"/>
              <a:gd name="textAreaTop" fmla="*/ 786240 h 1365120"/>
              <a:gd name="textAreaBottom" fmla="*/ 1169280 h 1365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1184760" y="2118600"/>
            <a:ext cx="727920" cy="244944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ОБЩИЕ ТРЕБОВАНИЯ ОХРАНЫ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1578960" y="2535120"/>
            <a:ext cx="727920" cy="352764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ТРЕБОВАНИЯ ОХРАНЫ ТРУДА ПЕРЕД НАЧАЛОМ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1814040" y="3553560"/>
            <a:ext cx="545400" cy="352584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ТРЕБОВАНИЯ ОХРАНЫ ТРУДА ВО ВРЕМЯ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368760" y="1922760"/>
            <a:ext cx="727920" cy="316872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ТРЕБОВАНИЯ ОХРАНЫ ТРУДА В АВАРИЙНЫХ СИТУАЦ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6475680" y="3326760"/>
            <a:ext cx="727920" cy="352584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ТРЕБОВАНИЯ ОХРАНЫ ТРУДА ПО ОКОНЧАНИИ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e2c"/>
                </a:solidFill>
                <a:latin typeface="Verdana"/>
              </a:rPr>
              <a:t>ВРЕМЕННЫЕ ИНСТРУКЦИИ </a:t>
            </a:r>
            <a:br>
              <a:rPr sz="2800"/>
            </a:br>
            <a:r>
              <a:rPr b="1" lang="en-US" sz="2800" spc="-1" strike="noStrike">
                <a:solidFill>
                  <a:srgbClr val="8c0e2c"/>
                </a:solidFill>
                <a:latin typeface="Verdana"/>
              </a:rPr>
              <a:t>ПО ОХРАНЕ ТРУДА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242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5400000">
            <a:off x="194400" y="2189880"/>
            <a:ext cx="546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2203200"/>
            <a:ext cx="7219800" cy="64332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ДЛЯ ВВОДИМЫХ В ДЕЙСТВИЕ НОВЫХ И РЕКОНСТРУИРОВАННЫХ ПРОИЗВОДСТ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 rot="5400000">
            <a:off x="122760" y="3555360"/>
            <a:ext cx="546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364500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3418560"/>
            <a:ext cx="7272360" cy="64332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ОБЕСПЕЧИВАЮТ БЕЗОПАСНОЕ ВЕДЕНИЕ ТЕХНОЛОГИЧЕСКИХ ПРОЦЕССОВ (РАБОТ) И БЕЗОПАСНУЮ ЭКСПЛУАТАЦИЮ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 rot="5400000">
            <a:off x="15120" y="4960800"/>
            <a:ext cx="546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5013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4795560"/>
            <a:ext cx="7515360" cy="643320"/>
          </a:xfrm>
          <a:prstGeom prst="roundRect">
            <a:avLst>
              <a:gd name="adj" fmla="val 16667"/>
            </a:avLst>
          </a:prstGeom>
          <a:solidFill>
            <a:srgbClr val="00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ВВОДЯТСЯ НА СРОК ДО ПРИЕМКИ УКАЗАННЫХ ПРОИЗВОДСТВ В ЭКСПЛУАТ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075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8c0e2c"/>
                </a:solidFill>
                <a:latin typeface="Verdana"/>
              </a:rPr>
              <a:t>ПЕРЕСМОТР</a:t>
            </a:r>
            <a:r>
              <a:rPr b="1" lang="en-US" sz="2400" spc="-1" strike="noStrike">
                <a:solidFill>
                  <a:srgbClr val="8c0e2c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8c0e2c"/>
                </a:solidFill>
                <a:latin typeface="Verdana"/>
              </a:rPr>
              <a:t> ИНСТРУКЦИЙ </a:t>
            </a:r>
            <a:br>
              <a:rPr sz="2400"/>
            </a:br>
            <a:r>
              <a:rPr b="1" lang="en-US" sz="2400" spc="-1" strike="noStrike">
                <a:solidFill>
                  <a:srgbClr val="8c0e2c"/>
                </a:solidFill>
                <a:latin typeface="Verdana"/>
              </a:rPr>
              <a:t>ПО ОХРАНЕ ТРУДА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 rot="13625400">
            <a:off x="3921480" y="1198800"/>
            <a:ext cx="1081080" cy="1365120"/>
          </a:xfrm>
          <a:custGeom>
            <a:avLst/>
            <a:gdLst>
              <a:gd name="textAreaLeft" fmla="*/ 310320 w 1081080"/>
              <a:gd name="textAreaRight" fmla="*/ 925920 w 1081080"/>
              <a:gd name="textAreaTop" fmla="*/ 786240 h 1365120"/>
              <a:gd name="textAreaBottom" fmla="*/ 1169280 h 1365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1613880" y="1274760"/>
            <a:ext cx="727920" cy="273348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ПРИ ИЗМЕНЕНИИ УСЛОВИЙ ТРУДА РАБ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6692400" y="3541680"/>
            <a:ext cx="727920" cy="324180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ПРИ ВНЕДРЕНИИ НОВОЙ ТЕХНИКИ И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6110640" y="1375200"/>
            <a:ext cx="1458000" cy="352584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ПО РЕЗУЛЬТАТАМ АНАЛИЗА МАТЕРИАЛОВ РАССЛЕДОВАНИЯ АВАРИЙ, НЕСЧАСТНЫХ СЛУЧАЕВ НА ПРОИЗВОДСТВЕ И ПРОФЕССИОНАЛЬНЫХ ЗАБОЛЕ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103760" y="3100680"/>
            <a:ext cx="1823040" cy="3525840"/>
          </a:xfrm>
          <a:prstGeom prst="flowChartPunchedTape">
            <a:avLst/>
          </a:pr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ПО ТРЕБОВАНИЮ ПРЕДСТАВИТЕЛЕЙ ОРГАНОВ ИСПОЛНИТЕЛЬНОЙ ВЛАСТИ СУБЪЕКТОВ РФ В ОБЛАСТИ ОХРАНЫ ТРУДА ИЛИ ОРГАНОВ ФЕДЕРАЛЬНОЙ ИНСПЕКЦИ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12:47:27Z</dcterms:created>
  <dc:creator>User</dc:creator>
  <dc:description/>
  <dc:language>en-US</dc:language>
  <cp:lastModifiedBy>trud</cp:lastModifiedBy>
  <dcterms:modified xsi:type="dcterms:W3CDTF">2021-12-15T12:18:15Z</dcterms:modified>
  <cp:revision>48</cp:revision>
  <dc:subject/>
  <dc:title>Организация службы охраны труда на предприятии</dc:title>
</cp:coreProperties>
</file>