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3F9-17D2-4774-91CE-20DFE032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6A5-A56A-4487-B04A-EE8B397D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94E-F17A-470F-A314-00F71520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623-FC82-4419-9E02-FD58C0FF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4D4A-70FA-4380-B3A2-888CFBAC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4FB0-A66D-4599-A7C5-F5B49143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CD88-0C87-4C8E-80C3-824D7516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3CBA-F8EB-4120-9710-DE0D51AA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6D0C-7B01-4C12-B6EA-38B580C1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F9E0-20AD-4167-9842-5102426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C704-5814-4C3B-9427-968CF9EE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208-E649-408D-95AE-97E2E073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647A-02C8-42AE-87B1-1EF9562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80BC-2AE6-4FFB-8084-52DED901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A4C0-5BCC-4271-96BE-92A0D088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3CFE-9127-4204-AA38-218A153E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4070-A88D-4589-A020-8539966E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F3E-3790-492E-AA0C-09C21CF7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5BC-563B-4777-BC42-A5522A50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008-66B0-4D79-BBD2-829BF543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673-637A-4F94-AF9B-B339E614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DEE-AEEC-42B2-ADA2-268C9AF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C08-B25C-4326-AAD9-7E235518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F94-F75E-48A7-9D57-E3DBAF0F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AF0E-06F6-4983-A124-CF1B4E9A87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2B0A-D430-4AA6-9F95-46BB00A115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583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Verdana"/>
              </a:rPr>
              <a:t>Микротравм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Verdana"/>
              </a:rPr>
              <a:t>в схемах и таблица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й специалист отдела социальной политики управления социального развития администрации город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А.А. Турков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8(81850) 3-41-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ud@koradm.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г. Коряж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92360" y="2347560"/>
            <a:ext cx="7200720" cy="67716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есто, дату и время получения работником микроповреждения (микротрав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1482480"/>
            <a:ext cx="7200720" cy="64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.И.О., год рождения, должность, структурное подразделение, стаж работы по специальности пострадавшего рабо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3139920"/>
            <a:ext cx="7083360" cy="64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раткие обстоятельства получения работником микроповреждения (микротрав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435560"/>
            <a:ext cx="7129440" cy="37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характер (описание) микротрав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2200" y="4923720"/>
            <a:ext cx="7132680" cy="40788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инятые м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 rot="5400000">
            <a:off x="338760" y="67752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1700280"/>
            <a:ext cx="647640" cy="144360"/>
          </a:xfrm>
          <a:custGeom>
            <a:avLst/>
            <a:gdLst>
              <a:gd name="textAreaLeft" fmla="*/ 0 w 647640"/>
              <a:gd name="textAreaRight" fmla="*/ 648000 w 647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266760" y="146988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836640"/>
            <a:ext cx="647640" cy="144360"/>
          </a:xfrm>
          <a:custGeom>
            <a:avLst/>
            <a:gdLst>
              <a:gd name="textAreaLeft" fmla="*/ 0 w 647640"/>
              <a:gd name="textAreaRight" fmla="*/ 648000 w 647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266760" y="226116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2565360"/>
            <a:ext cx="647640" cy="14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 rot="5400000">
            <a:off x="226800" y="2875320"/>
            <a:ext cx="5461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3357720"/>
            <a:ext cx="647640" cy="142560"/>
          </a:xfrm>
          <a:custGeom>
            <a:avLst/>
            <a:gdLst>
              <a:gd name="textAreaLeft" fmla="*/ 0 w 647640"/>
              <a:gd name="textAreaRight" fmla="*/ 648000 w 6476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5400000">
            <a:off x="303840" y="4239720"/>
            <a:ext cx="54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4005360"/>
            <a:ext cx="720720" cy="14292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932280"/>
            <a:ext cx="7129440" cy="37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ичины, приведшие к микроповреждению (микротрав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4508640"/>
            <a:ext cx="720720" cy="1425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 rot="5400000">
            <a:off x="303840" y="3592080"/>
            <a:ext cx="54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4236480" y="-3945960"/>
            <a:ext cx="454680" cy="87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3718"/>
                </a:solidFill>
                <a:latin typeface="Verdana"/>
              </a:rPr>
              <a:t>Что отразить в рекомендованной форме жур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5514480"/>
            <a:ext cx="7150320" cy="40788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ледствия микроповреждений (микротрав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5013360"/>
            <a:ext cx="720720" cy="1443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 rot="5400000">
            <a:off x="303840" y="4887720"/>
            <a:ext cx="54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6091200"/>
            <a:ext cx="7200720" cy="37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.И.О. лица, производившего запи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5661000"/>
            <a:ext cx="720720" cy="1443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 rot="5400000">
            <a:off x="303840" y="5463720"/>
            <a:ext cx="54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92360" y="762840"/>
            <a:ext cx="7200720" cy="40788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рядковый но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6237360"/>
            <a:ext cx="647640" cy="144360"/>
          </a:xfrm>
          <a:custGeom>
            <a:avLst/>
            <a:gdLst>
              <a:gd name="textAreaLeft" fmla="*/ 0 w 647640"/>
              <a:gd name="textAreaRight" fmla="*/ 648000 w 647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 rot="5400000">
            <a:off x="303840" y="6040080"/>
            <a:ext cx="54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микроповреждений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324000" y="1199880"/>
            <a:ext cx="50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1265400"/>
            <a:ext cx="7070760" cy="644040"/>
          </a:xfrm>
          <a:prstGeom prst="roundRect">
            <a:avLst>
              <a:gd name="adj" fmla="val 16667"/>
            </a:avLst>
          </a:prstGeom>
          <a:solidFill>
            <a:srgbClr val="66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садины, кровоподте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9960" y="2274120"/>
            <a:ext cx="7177320" cy="1724040"/>
          </a:xfrm>
          <a:prstGeom prst="roundRect">
            <a:avLst>
              <a:gd name="adj" fmla="val 16667"/>
            </a:avLst>
          </a:prstGeom>
          <a:solidFill>
            <a:srgbClr val="66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шибы мягких тканей, поверхностные раны и другие поврежде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2880" y="4241520"/>
            <a:ext cx="7248600" cy="2467440"/>
          </a:xfrm>
          <a:prstGeom prst="roundRect">
            <a:avLst>
              <a:gd name="adj" fmla="val 16667"/>
            </a:avLst>
          </a:prstGeom>
          <a:solidFill>
            <a:srgbClr val="66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ое услов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вреждение не повлекло расстройства здоровья или наступления временной нетрудоспособности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(ст. 226 ТК РФ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33336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43718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43718"/>
                </a:solidFill>
                <a:latin typeface="Verdana"/>
              </a:rPr>
              <a:t>получена микротрав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3440" y="2609640"/>
            <a:ext cx="3487680" cy="246888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 исполнении трудовых обязанностей или какой-либо работы по поручению работодателя (его представителя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3981960" y="-2677680"/>
            <a:ext cx="1033560" cy="82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Учету подлежат микроповреждения, полученные в следующих случа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2561760"/>
            <a:ext cx="4010040" cy="253620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 осуществлении иных правомерных действий, обусловленных трудовыми отношениями с работодателем либо совершаемых в его интересах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2781360"/>
            <a:ext cx="1224000" cy="1439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2771280" y="5299560"/>
            <a:ext cx="2808360" cy="397080"/>
          </a:xfrm>
          <a:prstGeom prst="wedgeRoundRectCallout">
            <a:avLst>
              <a:gd name="adj1" fmla="val -7731"/>
              <a:gd name="adj2" fmla="val 295560"/>
              <a:gd name="adj3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т. 226 Т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Garamond"/>
              </a:rPr>
              <a:t>учет микроповреждений</a:t>
            </a:r>
            <a:r>
              <a:rPr b="1" lang="en-US" sz="2800" spc="-1" strike="noStrike">
                <a:solidFill>
                  <a:srgbClr val="f43718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360" y="1262520"/>
            <a:ext cx="3579840" cy="314388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зволит работода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высить эффективность проведения работодателем системных мероприятий по управлению профессиональными рисками, обеспечению улучшения условий и охраны тру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1120" y="1232280"/>
            <a:ext cx="3527280" cy="314388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чет позволит выявить обстоятельства и причины, которые привели к возникновению микроповреждений (микротравм) работников, принимать меры по предупреждению производственного травмат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1989000"/>
            <a:ext cx="1224000" cy="1440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1115640" y="5157360"/>
            <a:ext cx="6049800" cy="922680"/>
          </a:xfrm>
          <a:prstGeom prst="wedgeRoundRectCallout">
            <a:avLst>
              <a:gd name="adj1" fmla="val -10699"/>
              <a:gd name="adj2" fmla="val 169148"/>
              <a:gd name="adj3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п. 2. Приказа Минтруда России от 15.09.2021 № 632н "Об утверждении рекомендаций по учету микроповреждений (микротравм) работник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92360" y="833040"/>
            <a:ext cx="7108920" cy="104868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Утвердить локальным нормативным актом порядок учета микроповреждений (микротравм) работников (исходя из особенностей организационной структуры, специфики, характера производственной деятельности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одатель обяз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2130480"/>
            <a:ext cx="7127640" cy="57636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Ознакомить должностных лиц с утвержденным порядком учета микроповрежде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3138480"/>
            <a:ext cx="7200720" cy="57636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нформировать работников об их действиях при получении микроповреждения (микротравмы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4073400"/>
            <a:ext cx="7128000" cy="57636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ссмотреть обстоятельства, выявление причин, приводящих к микроповреждениям (микротравмам) работ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4865040"/>
            <a:ext cx="7150320" cy="8125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Установить место и сроки хранения справки и журнала. Рекомендованный срок хранения обоих доку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43718"/>
                </a:solidFill>
                <a:latin typeface="Arial"/>
              </a:rPr>
              <a:t>составляет не менее одного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94400" y="118152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19700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193680" y="219060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2276640"/>
            <a:ext cx="649440" cy="288720"/>
          </a:xfrm>
          <a:custGeom>
            <a:avLst/>
            <a:gdLst>
              <a:gd name="textAreaLeft" fmla="*/ 0 w 649440"/>
              <a:gd name="textAreaRight" fmla="*/ 649800 w 6494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5400000">
            <a:off x="193680" y="319788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3284640"/>
            <a:ext cx="720720" cy="215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5400000">
            <a:off x="156960" y="4172400"/>
            <a:ext cx="5461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422100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 rot="5400000">
            <a:off x="159480" y="604008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5157720"/>
            <a:ext cx="792000" cy="287280"/>
          </a:xfrm>
          <a:custGeom>
            <a:avLst/>
            <a:gdLst>
              <a:gd name="textAreaLeft" fmla="*/ 0 w 792000"/>
              <a:gd name="textAreaRight" fmla="*/ 792360 w 792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5891400"/>
            <a:ext cx="7193160" cy="8125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Обеспечить доступность в организации (структурных подразделениях) бланка Справки в электронном виде или на бумажном носите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6165720"/>
            <a:ext cx="792000" cy="287640"/>
          </a:xfrm>
          <a:custGeom>
            <a:avLst/>
            <a:gdLst>
              <a:gd name="textAreaLeft" fmla="*/ 0 w 792000"/>
              <a:gd name="textAreaRight" fmla="*/ 792360 w 792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 rot="5400000">
            <a:off x="159480" y="510336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2240" y="1095840"/>
            <a:ext cx="4224240" cy="128484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и получении информации о микроповреждении уполномоченное лицо должно рассмотреть обстоятельства и причины, приведшие к ее возникновени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43718"/>
                </a:solidFill>
                <a:latin typeface="Arial"/>
              </a:rPr>
              <a:t>в </a:t>
            </a:r>
            <a:r>
              <a:rPr b="1" i="1" lang="ru-RU" sz="1400" spc="-1" strike="noStrike" u="sng">
                <a:solidFill>
                  <a:srgbClr val="f43718"/>
                </a:solidFill>
                <a:uFillTx/>
                <a:latin typeface="Arial"/>
              </a:rPr>
              <a:t>срок до трех календарных дней</a:t>
            </a:r>
            <a:r>
              <a:rPr b="0" lang="ru-RU" sz="1400" spc="-1" strike="noStrike">
                <a:solidFill>
                  <a:srgbClr val="f4371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одатель обяз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5303880" y="1021320"/>
            <a:ext cx="3627360" cy="199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ри невозможности завершения в указанный срок рассмотрения обстоятельств и причин, в том числе из-за отсутствия объяснения пострадавшего работника, срок рассмотрения может быть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продлен, но не более чем </a:t>
            </a:r>
            <a:r>
              <a:rPr b="1" i="1" lang="en-US" sz="1400" spc="-1" strike="noStrike" u="sng">
                <a:solidFill>
                  <a:srgbClr val="f43718"/>
                </a:solidFill>
                <a:uFillTx/>
                <a:latin typeface="Arial"/>
              </a:rPr>
              <a:t>на два календарных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440" y="2821680"/>
            <a:ext cx="4116600" cy="152100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запросить объяснение пострадавшего работника об указанных обстоятельствах любым доступным способом, определенным работодателем, а также провести осмотр места происше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64000" y="3542760"/>
            <a:ext cx="3660840" cy="182484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фиксировать результаты рассмотрения в специальном документе - справке о рассмотрении обстоятельств и причин, приведших к возникновению микроповреждения (микротравмы) работник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649760"/>
            <a:ext cx="4033800" cy="8125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Регистрировать происшедшие микроповреждения (микротравм) в специальном журнале у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2708280"/>
            <a:ext cx="1152720" cy="14400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5657760"/>
            <a:ext cx="6985080" cy="111636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азработать мероприятия по устранению причин, приведших к возникновению микроповреждений (микротравм) (при участии руководителя структурного подразделения пострадавшего работника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одатель обяз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322280" y="718920"/>
            <a:ext cx="7159680" cy="67716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ри подготовке перечня мероприя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рекомендуется учитывать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553040"/>
            <a:ext cx="3838320" cy="199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бстоятельства получения микроповреждения (микротравмы), включая используемые оборудование, инструменты, материалы и сырье, приемы работы, условия труда, и возможность их воспроизведения в схожих ситуациях или на других рабочих места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1625400"/>
            <a:ext cx="3600360" cy="8125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организационные недостатки в функционировании системы управления охраной труд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0800" y="2752560"/>
            <a:ext cx="3651120" cy="91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физическое состояние работника в момент получения микроповреждения (микротравмы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931560"/>
            <a:ext cx="3470400" cy="40788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еры по контролю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714120"/>
            <a:ext cx="3782880" cy="84564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еханизмы оценки эффективности мер по контролю и реализации профилактических мероприят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2276640"/>
            <a:ext cx="1081080" cy="18000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249120" y="5371920"/>
            <a:ext cx="8786880" cy="1251720"/>
          </a:xfrm>
          <a:prstGeom prst="wedgeRoundRectCallout">
            <a:avLst>
              <a:gd name="adj1" fmla="val 4523"/>
              <a:gd name="adj2" fmla="val 82601"/>
              <a:gd name="adj3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Формы документов для фиксации и учета микроповреждений можно разработать самостоятельно с учетом сведений, содержащихся в рекомендованных форм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справки и жур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1400" spc="-1" strike="noStrike" u="sng">
                <a:solidFill>
                  <a:srgbClr val="000099"/>
                </a:solidFill>
                <a:uFillTx/>
                <a:latin typeface="Arial"/>
              </a:rPr>
              <a:t>Приказ Минтруда России от 15.09.2021 N 632н "Об утверждении рекомендаций по учету микроповреждений (микротравм) работников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737600" y="2452320"/>
            <a:ext cx="60696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43718"/>
                </a:solidFill>
                <a:uFillTx/>
                <a:latin typeface="Arial"/>
              </a:rPr>
              <a:t>Обратите внимание</a:t>
            </a:r>
            <a:r>
              <a:rPr b="1" lang="en-US" sz="2800" spc="-1" strike="noStrike">
                <a:solidFill>
                  <a:srgbClr val="f4371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8000" y="54936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43718"/>
                </a:solidFill>
                <a:latin typeface="Verdana"/>
              </a:rPr>
              <a:t>действия работ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1113840"/>
            <a:ext cx="5919840" cy="2840040"/>
          </a:xfrm>
          <a:prstGeom prst="roundRect">
            <a:avLst>
              <a:gd name="adj" fmla="val 16667"/>
            </a:avLst>
          </a:prstGeom>
          <a:solidFill>
            <a:srgbClr val="00008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нованием для регистрации микроповреждения (микротравмы) работника и рассмотрения обстоятельств и причин, приведших к его возникновению, является обращение пострадавшего к своему непосредственному или вышестоящему руководителю, работодателю (его представи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4380120" y="1842840"/>
            <a:ext cx="60696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43718"/>
                </a:solidFill>
                <a:uFillTx/>
                <a:latin typeface="Arial"/>
              </a:rPr>
              <a:t>Обратите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539280" y="5011560"/>
            <a:ext cx="8209080" cy="1286280"/>
          </a:xfrm>
          <a:prstGeom prst="wedgeRoundRectCallout">
            <a:avLst>
              <a:gd name="adj1" fmla="val -14712"/>
              <a:gd name="adj2" fmla="val 86064"/>
              <a:gd name="adj3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ник имеет право на личное участие или участие через своих представителей в рассмотрении причин и обстоятельств событий, приведших к возникновению микроповреждений (микротравм) абз. 12, ч.1 ст. 216 Т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92360" y="2347560"/>
            <a:ext cx="7200720" cy="67716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есто, дату и время получения работником микроповреждения (микротрав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1591920"/>
            <a:ext cx="7203960" cy="64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.И.О., год рождения, должность, структурное подразделение, стаж работы по специальности пострадавшего рабо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3211560"/>
            <a:ext cx="7200720" cy="37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ействия по оказанию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3714840"/>
            <a:ext cx="7200720" cy="37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характер (описание) микротрав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4219560"/>
            <a:ext cx="7200720" cy="37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бстоятельства ее пол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 rot="5400000">
            <a:off x="194400" y="168552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637000"/>
            <a:ext cx="720720" cy="1425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193680" y="240624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844640"/>
            <a:ext cx="720720" cy="1443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 rot="5400000">
            <a:off x="193680" y="305352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3284640"/>
            <a:ext cx="718920" cy="144360"/>
          </a:xfrm>
          <a:custGeom>
            <a:avLst/>
            <a:gdLst>
              <a:gd name="textAreaLeft" fmla="*/ 0 w 718920"/>
              <a:gd name="textAreaRight" fmla="*/ 719280 w 7189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 rot="5400000">
            <a:off x="155520" y="3667680"/>
            <a:ext cx="546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3860640"/>
            <a:ext cx="718920" cy="144720"/>
          </a:xfrm>
          <a:custGeom>
            <a:avLst/>
            <a:gdLst>
              <a:gd name="textAreaLeft" fmla="*/ 0 w 718920"/>
              <a:gd name="textAreaRight" fmla="*/ 719280 w 7189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5400000">
            <a:off x="159480" y="474300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365720"/>
            <a:ext cx="720720" cy="14292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4795920"/>
            <a:ext cx="7218360" cy="37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ичины, приведшие к микроповреждению (микротрав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941720"/>
            <a:ext cx="720720" cy="14292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 rot="5400000">
            <a:off x="159480" y="416844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3962160" y="-3669840"/>
            <a:ext cx="1003320" cy="87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3718"/>
                </a:solidFill>
                <a:latin typeface="Verdana"/>
              </a:rPr>
              <a:t>Что отразить в справке  </a:t>
            </a:r>
            <a:br>
              <a:rPr sz="1800"/>
            </a:br>
            <a:r>
              <a:rPr b="1" lang="en-US" sz="1800" spc="-1" strike="noStrike">
                <a:solidFill>
                  <a:srgbClr val="f43718"/>
                </a:solidFill>
                <a:latin typeface="Verdana"/>
              </a:rPr>
              <a:t>о рассмотрении причин и обстоятельств, приведших</a:t>
            </a:r>
            <a:br>
              <a:rPr sz="1800"/>
            </a:br>
            <a:r>
              <a:rPr b="1" lang="en-US" sz="1800" spc="-1" strike="noStrike">
                <a:solidFill>
                  <a:srgbClr val="f43718"/>
                </a:solidFill>
                <a:latin typeface="Verdana"/>
              </a:rPr>
              <a:t>         к возникновению микроповреждения (микротравмы) рабо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5371920"/>
            <a:ext cx="7147080" cy="37332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едложения по устранению указанных прич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5516640"/>
            <a:ext cx="792000" cy="14436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5400000">
            <a:off x="159480" y="539244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90560" y="6001920"/>
            <a:ext cx="7150320" cy="407880"/>
          </a:xfrm>
          <a:prstGeom prst="roundRect">
            <a:avLst>
              <a:gd name="adj" fmla="val 16667"/>
            </a:avLst>
          </a:prstGeom>
          <a:solidFill>
            <a:srgbClr val="003300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.И.О., должность и подпись уполномоченного лица, а также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6093000"/>
            <a:ext cx="720720" cy="1443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 rot="5400000">
            <a:off x="159480" y="589572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12:47:27Z</dcterms:created>
  <dc:creator>User</dc:creator>
  <dc:description/>
  <dc:language>en-US</dc:language>
  <cp:lastModifiedBy>trud</cp:lastModifiedBy>
  <dcterms:modified xsi:type="dcterms:W3CDTF">2022-06-06T09:33:27Z</dcterms:modified>
  <cp:revision>43</cp:revision>
  <dc:subject/>
  <dc:title>Организация службы охраны труда на предприятии</dc:title>
</cp:coreProperties>
</file>