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4B6-17C6-4863-86FC-FAE2A872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D26-DCF9-42CF-AD11-9DE504E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2D2-342C-4B67-B85A-FAE0C7C4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50D-95B4-4FD0-8E86-6CB0E906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CE7C-081C-41AF-92CA-2A8000D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8A03-8CD8-4D44-B4E9-67CF2E5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FA33-787F-4433-9411-8CA8F07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33E-7A5B-4764-AFFD-6D0E160F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C1E6-D103-4133-B5E4-CB2706E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9CA7-59FD-49A1-8CF3-02FCBCB5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8BCF-AE2B-477F-94A4-A019C90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233-A4CB-4190-8A13-1FD7432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E1DA-AF1E-46D3-B329-D788E29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F453-9A4C-4048-8752-E15C02A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674-5101-43C4-9DA9-81FD8669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8C5A-94FF-4C1A-A824-32E92E75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DD0D-D56A-46AD-9A43-521207A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44E-9D47-4B67-A3C4-585D0B0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275-D027-4E31-9709-385B684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8DD-2F02-458B-8F5B-F0BCBAD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C0C-F598-4EBF-B41C-4261CF2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32E-9CA4-45C2-8F60-A671D42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684-9800-4A7A-A9EA-7820DAE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F90-7987-4619-9CF1-A70A3C0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AA7-B99E-40ED-A424-923FCD7069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63B-DD8F-42FD-9645-845704608D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83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Verdana"/>
              </a:rPr>
              <a:t>медицински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Verdana"/>
              </a:rPr>
              <a:t>освидетельствования работнико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й специалист отдела социальной политики управления социального развития администрации город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А.А. Турков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8(81850) 3-41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ud@koradm.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г. Коряж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18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ПЕРИОДИЧЕСКИЕ МЕДИЦИНСКИЕ ОСМОТРЫ ПРОХОДЯТ РАБОТНИК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41768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1410840"/>
            <a:ext cx="7201080" cy="44100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ЗАНЯТЫЕ НА РАБОТАХ С ВРЕДНЫМИ И (ИЛИ) ОПАСНЫМИ УСЛОВИЯМИ ТРУДА (В ТОМ ЧИСЛЕ НА ПОДЗЕМНЫХ РАБОТАХ), А ТАКЖЕ НА РАБОТАХ, СВЯЗАННЫХ С ДВИЖЕНИЕМ ТРАНСПОР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18448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202480"/>
            <a:ext cx="7129440" cy="27216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ОРГАНИЗАЦИЙ ПИЩЕВОЙ ПРОМЫШЛЕН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92428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921760"/>
            <a:ext cx="7129440" cy="27216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ОБЩЕСТВЕННОГО ПИТАНИЯ И ТОРГОВ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69576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74800" y="3605760"/>
            <a:ext cx="7034400" cy="27216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ВОДОПРОВОДНЫХ СООРУЖ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363200"/>
            <a:ext cx="7129440" cy="27216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МЕДИЦИНСКИХ ОРГАНИЗА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43657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5010840"/>
            <a:ext cx="6985080" cy="27216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ДЕТСКИХ УЧРЕЖД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01336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58104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658840"/>
            <a:ext cx="7129440" cy="44100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А ТАКЖЕ НЕКОТОРЫХ ДРУГИХ РАБОТОДАТЕЛЕЙ, ВЫПОЛНЯЮЩИЕ РАБОТЫ, ПРЕДУСМОТРЕННЫЕ ПРИЛОЖЕНИЕМ К ПОРЯДКУ 29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6200000">
            <a:off x="4411080" y="-2605680"/>
            <a:ext cx="655200" cy="854064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СПИСОК РАБОТНИКОВ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5400000">
            <a:off x="7687800" y="1748160"/>
            <a:ext cx="523080" cy="185904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erdana"/>
              </a:rPr>
              <a:t>ПИЩЕВОЙ ПРОМЫШЛЕН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1522800" y="-654840"/>
            <a:ext cx="654840" cy="276372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ОБЩЕСТВЕННОГО ПИТАНИЯ И ТОРГОВ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1181880" y="1702800"/>
            <a:ext cx="588600" cy="201600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ВОДОПРОВОДНЫХ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420360" y="47700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554720" y="-303840"/>
            <a:ext cx="654840" cy="206208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МЕДИЦИНСКИ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7301160" y="-97560"/>
            <a:ext cx="654840" cy="164952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ДЕТСКИХ УЧРЕЖД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036680" y="1080720"/>
            <a:ext cx="1377000" cy="390708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НЕКОТОРЫХ ДРУГИХ РАБОТОДАТЕЛЕЙ, КОТОРЫЕ ПРОХОДЯТМЕДИЦИНСКИЕ ОСМОТРЫ В ЦЕЛЯХ ОХРАНЫ ЗДОРОВЬЯ НАСЕЛЕНИЯ,ПРЕДУПРЕЖДЕНИЯ ВОЗНИКНОВЕНИЯ И РАСПРОСТРАНЕНИЯ ЗАБОЛЕВАН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75320" y="1056240"/>
            <a:ext cx="2034360" cy="793116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РАЗРАБОТАННЫЙ И УТВЕРЖДЕННЫЙ РАБОТОДАТЕЛЕМ, НЕ ПОЗДНЕЕ 10 РАБОЧИХ ДНЕЙ НАПРАВЛЯЕТСЯ В ТЕРРИТОРИАЛЬНЫЙ ОРГАН ФЕДЕРАЛЬНОГО ОРГАНА ИСПОЛНИТЕЛЬНОЙ ВЛАСТИ,УПОЛНОМОЧЕННОГО НА ОСУЩЕСТВЛЕНИЕ ФЕДЕРАЛЬНОГО ГОСУДАРСТВЕННОГО САНИТАРНО – ЭПИДЕМИОЛОГИЧЕСКОГО НАДЗОРА, ПО ФАКТИЧЕСКОМУ МЕСТУ НАХОЖДЕНИЯ РАБОТОДАТЕЛЯ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1547280" y="3573000"/>
            <a:ext cx="6217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2" name=""/>
          <p:cNvCxnSpPr/>
          <p:nvPr/>
        </p:nvCxnSpPr>
        <p:spPr>
          <a:xfrm>
            <a:off x="826560" y="1916280"/>
            <a:ext cx="505800" cy="203760"/>
          </a:xfrm>
          <a:prstGeom prst="bentConnector5">
            <a:avLst>
              <a:gd name="adj1" fmla="val 6908"/>
              <a:gd name="adj2" fmla="val 1246725"/>
              <a:gd name="adj3" fmla="val 144943"/>
            </a:avLst>
          </a:prstGeom>
          <a:ln w="0">
            <a:noFill/>
          </a:ln>
        </p:spPr>
      </p:cxnSp>
      <p:sp>
        <p:nvSpPr>
          <p:cNvPr id="173" name=""/>
          <p:cNvSpPr/>
          <p:nvPr/>
        </p:nvSpPr>
        <p:spPr>
          <a:xfrm>
            <a:off x="611280" y="3716280"/>
            <a:ext cx="2305080" cy="792360"/>
          </a:xfrm>
          <a:custGeom>
            <a:avLst/>
            <a:gdLst>
              <a:gd name="textAreaLeft" fmla="*/ 288000 w 2305080"/>
              <a:gd name="textAreaRight" fmla="*/ 2017080 w 2305080"/>
              <a:gd name="textAreaTop" fmla="*/ 9900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2700" y="2700"/>
                </a:moveTo>
                <a:lnTo>
                  <a:pt x="9400" y="27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2700"/>
                </a:lnTo>
                <a:lnTo>
                  <a:pt x="18900" y="2700"/>
                </a:lnTo>
                <a:lnTo>
                  <a:pt x="189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8900" y="12200"/>
                </a:lnTo>
                <a:lnTo>
                  <a:pt x="18900" y="18900"/>
                </a:lnTo>
                <a:lnTo>
                  <a:pt x="12200" y="189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8900"/>
                </a:lnTo>
                <a:lnTo>
                  <a:pt x="2700" y="18900"/>
                </a:lnTo>
                <a:lnTo>
                  <a:pt x="27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2700" y="9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020000" y="2997360"/>
            <a:ext cx="216000" cy="838080"/>
          </a:xfrm>
          <a:prstGeom prst="upArrow">
            <a:avLst>
              <a:gd name="adj1" fmla="val 50000"/>
              <a:gd name="adj2" fmla="val 9700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6155640" y="40536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520000" y="252972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6732000" y="2565360"/>
            <a:ext cx="21600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105264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1331640" y="3068640"/>
            <a:ext cx="215640" cy="838080"/>
          </a:xfrm>
          <a:prstGeom prst="upArrow">
            <a:avLst>
              <a:gd name="adj1" fmla="val 50000"/>
              <a:gd name="adj2" fmla="val 97162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105264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85080" y="105264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403280" y="206064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4787640" y="206064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956360" y="206064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916360" y="1268280"/>
            <a:ext cx="288720" cy="2951280"/>
          </a:xfrm>
          <a:custGeom>
            <a:avLst/>
            <a:gdLst>
              <a:gd name="textAreaLeft" fmla="*/ 50400 w 288720"/>
              <a:gd name="textAreaRight" fmla="*/ 209520 w 288720"/>
              <a:gd name="textAreaTop" fmla="*/ 395280 h 2951280"/>
              <a:gd name="textAreaBottom" fmla="*/ 255600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1571600">
            <a:off x="1149120" y="3544560"/>
            <a:ext cx="14436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773360"/>
            <a:ext cx="217440" cy="3240000"/>
          </a:xfrm>
          <a:custGeom>
            <a:avLst/>
            <a:gdLst>
              <a:gd name="textAreaLeft" fmla="*/ 62280 w 217440"/>
              <a:gd name="textAreaRight" fmla="*/ 186480 w 217440"/>
              <a:gd name="textAreaTop" fmla="*/ 2759040 h 3240000"/>
              <a:gd name="textAreaBottom" fmla="*/ 277524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8447"/>
                </a:moveTo>
                <a:lnTo>
                  <a:pt x="6200" y="15293"/>
                </a:lnTo>
                <a:lnTo>
                  <a:pt x="6200" y="18393"/>
                </a:lnTo>
                <a:lnTo>
                  <a:pt x="18393" y="18393"/>
                </a:lnTo>
                <a:lnTo>
                  <a:pt x="18393" y="6200"/>
                </a:lnTo>
                <a:lnTo>
                  <a:pt x="15293" y="6200"/>
                </a:lnTo>
                <a:lnTo>
                  <a:pt x="18447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576000" cy="2881080"/>
          </a:xfrm>
          <a:custGeom>
            <a:avLst/>
            <a:gdLst>
              <a:gd name="textAreaLeft" fmla="*/ 77040 w 576000"/>
              <a:gd name="textAreaRight" fmla="*/ 498960 w 576000"/>
              <a:gd name="textAreaTop" fmla="*/ 571680 h 2881080"/>
              <a:gd name="textAreaBottom" fmla="*/ 174996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76" stAng="-5400000" swAng="-5400000"/>
                <a:lnTo>
                  <a:pt x="0" y="8832"/>
                </a:lnTo>
                <a:arcTo wR="21600" hR="8576" stAng="10800000" swAng="-2898935"/>
                <a:lnTo>
                  <a:pt x="14400" y="21110"/>
                </a:lnTo>
                <a:lnTo>
                  <a:pt x="21600" y="17280"/>
                </a:lnTo>
                <a:lnTo>
                  <a:pt x="14400" y="12470"/>
                </a:lnTo>
                <a:lnTo>
                  <a:pt x="14400" y="16662"/>
                </a:lnTo>
                <a:arcTo wR="21600" hR="8576" stAng="7901065" swAng="2878561"/>
                <a:lnTo>
                  <a:pt x="2" y="8704"/>
                </a:lnTo>
                <a:arcTo wR="21600" hR="8576" stAng="-10779626" swAng="5379626"/>
                <a:close/>
              </a:path>
              <a:path fill="darkenLess" w="21600" h="21600">
                <a:moveTo>
                  <a:pt x="21600" y="0"/>
                </a:moveTo>
                <a:arcTo wR="21600" hR="8576" stAng="-5400000" swAng="-5400000"/>
                <a:lnTo>
                  <a:pt x="0" y="8576"/>
                </a:lnTo>
                <a:arcTo wR="21600" hR="8576" stAng="10800000" swAng="-20374"/>
                <a:lnTo>
                  <a:pt x="2" y="8704"/>
                </a:lnTo>
                <a:arcTo wR="21600" hR="8576" stAng="-10779626" swAng="537962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394920" y="1699920"/>
            <a:ext cx="361080" cy="331380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469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ПОИМЕННЫЕ СПИСИ РАБОТНИКОВ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6518160" cy="15840"/>
        </p:xfrm>
        <a:graphic>
          <a:graphicData uri="http://schemas.openxmlformats.org/drawingml/2006/table">
            <a:tbl>
              <a:tblPr/>
              <a:tblGrid>
                <a:gridCol w="2070000"/>
                <a:gridCol w="1797120"/>
                <a:gridCol w="1803600"/>
                <a:gridCol w="847440"/>
              </a:tblGrid>
              <a:tr h="94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50920" y="1080720"/>
            <a:ext cx="2881080" cy="459360"/>
          </a:xfrm>
          <a:prstGeom prst="rightArrowCallout">
            <a:avLst>
              <a:gd name="adj1" fmla="val 25002"/>
              <a:gd name="adj2" fmla="val 25000"/>
              <a:gd name="adj3" fmla="val 104532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В поименных списках ук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687240"/>
            <a:ext cx="5689440" cy="144396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фамилия, имя, отчество (при наличии) работ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профессия (должность) работника, стаж работы в 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- наименование структурного подразделения работодателя (при налич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- наименование вредных производственных факторов или видов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2423880"/>
            <a:ext cx="2879640" cy="1006920"/>
          </a:xfrm>
          <a:prstGeom prst="rightArrowCallout">
            <a:avLst>
              <a:gd name="adj1" fmla="val 25002"/>
              <a:gd name="adj2" fmla="val 25000"/>
              <a:gd name="adj3" fmla="val 47664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списки составляются и утверждаются работодателем (его уполномоченным представителе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43160" y="2448360"/>
            <a:ext cx="5740560" cy="111528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не позднее чем за 2 месяца до согласованной с медицинской организацией датой начала проведения периодического осмотра и направляются работодателем в указанную медицинскую организацию, если иной срок не установлен договором между работником и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186440"/>
            <a:ext cx="2879640" cy="946800"/>
          </a:xfrm>
          <a:prstGeom prst="rightArrowCallout">
            <a:avLst>
              <a:gd name="adj1" fmla="val 25002"/>
              <a:gd name="adj2" fmla="val 25000"/>
              <a:gd name="adj3" fmla="val 50691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календарный план проведения периодического осмо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3887280"/>
            <a:ext cx="5837400" cy="145332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Медицинская организация в срок не позднее 10 рабочих дней с момента получения от работодателя поименного списка (но не позднее чем за 14 рабочих дней до согласованной с работодателем даты начала проведения периодического осмотра) на основании поименного списка составляет календарный план проведения периодического осмо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5770080"/>
            <a:ext cx="2879640" cy="802440"/>
          </a:xfrm>
          <a:prstGeom prst="rightArrowCallout">
            <a:avLst>
              <a:gd name="adj1" fmla="val 25002"/>
              <a:gd name="adj2" fmla="val 25000"/>
              <a:gd name="adj3" fmla="val 59810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Работодатель  (его представ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обязан</a:t>
            </a:r>
            <a:r>
              <a:rPr b="0" lang="en-US" sz="1200" spc="-1" strike="noStrike">
                <a:solidFill>
                  <a:srgbClr val="8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5688000"/>
            <a:ext cx="5808960" cy="91260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вручить работнику, направляемому на периодический осмотр, направление на периодический медицинский осмот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8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ознакомить работников, подлежащих периодическому осмотру, с календар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1021"/>
                </a:solidFill>
                <a:latin typeface="Verdana"/>
              </a:rPr>
              <a:t>ОБРАТИТЕ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196000" y="44640"/>
            <a:ext cx="5040360" cy="763272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Работодатель вправе организовать работникам прохождение диспансеризации (первого этапа) и (или) ежегодного профилактического медицинского осмотра взрослого населения с целью предоставления результатов врачебной комиссии, необходимых при подготовке заключения по итогам периодического осмо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При этом стоимость услуг, оказываемых при проведении диспансеризации (первого этапа) и (или) ежегодного профилактического медицинского осмотра и оплачиваемых за счет средств обязательного медицинского страхования, не учитывается в оплате по договору, заключенному с работодателем на проведение период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4187160" y="-2814120"/>
            <a:ext cx="85356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ОКОНЧАНИЕ ПРОХО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ПЕРЕДВАРИТЕЛЬНОГО ОСМОТРА ОФОРМ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393480" y="1266480"/>
            <a:ext cx="5094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157032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ДАТА ВЫДАЧИ ЗАКЛЮ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2058480"/>
            <a:ext cx="720072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ФАМИЛИЯ, ИМЯ, ОТЧЕСТВО (ПРИ НАЛИЧИИ), ДАТА РОЖДЕНИЯ, ПОЛ ЛИЦА, ПОСТУПАЮЩЕГО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277848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АИМЕНОВАНИЕ РАБОТОД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3355200"/>
            <a:ext cx="720072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ИМЕНОВАНИЕ СТРУКТУРНОГО ПОДРАЗДЕЛЕНИЯ РАБОТОДАТЕЛЯ (ПРИ НАЛИЧИИ), ДОЛЖНОСТИ (ПРОФЕССИИ) ИЛИ ВИ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4003200"/>
            <a:ext cx="712764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ИМЕНОВАНИЕ ВРЕДНЫХ И (ИЛИ) ОПАСНЫХ ПРОИЗВОДСТВЕННЫХ ФАКТОРОВ, ВИДОВ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822920"/>
            <a:ext cx="7200720" cy="9126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ЕЗУЛЬТАТЫ ПРЕДВАРИТЕЛЬНОГО ОСМОТРА: МЕДИЦИНСКИЕ ПРОТИВОПОКАЗАНИЯ К РАБОТЕ (ПЕРЕЧИСЛИТЬ ВРЕДНЫЕ ФАКТОРЫ ИЛИ ВИДЫ РАБОТ, В ОТНОШЕНИИ КОТОРЫХ ВЫЯВЛЕНЫ ПРОТИВОПОКАЗАНИЯ) ИЛИ МЕДИЦИНСКИЕ ПРОТИВОПОКАЗАНИЯ К РАБОТЕ НЕ ВЫЯВЛЕНЫ; ГРУППА ЗДОРОВЬЯ ЛИЦА, ПОСТУПАЮЩЕГО НА РАБО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22440" y="2088000"/>
            <a:ext cx="6470640" cy="30600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Е ПОЗДНЕЕ 5 РАБОЧИХ ДНЕЙ ВЫДАЕТСЯ РАБОТ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836640"/>
            <a:ext cx="903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ЗАКЛЮЧЕНИЕ СОСТАВЛЯЕТСЯ </a:t>
            </a:r>
            <a:br>
              <a:rPr sz="28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В ПЯТИ ЭКЗЕМПЛЯРАХ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2806200"/>
            <a:ext cx="6481800" cy="5086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ИОБЩАЕТСЯ К МЕДИЦИНСКОЙ КАРТЕ, ОФОРМЛЯЕМОЙ В МЕДИЦИНСКОЙ ОРГАНИЗАЦИИ, В КОТОРОЙ ПРОВОДИЛСЯ ПЕРИОДИЧЕСКИЙ ОСМО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3642120"/>
            <a:ext cx="6486480" cy="30600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АПРАВЛЯЕТСЯ РАБОТОД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94400" y="1973520"/>
            <a:ext cx="54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205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65680" y="269280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292428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 rot="5400000">
            <a:off x="265680" y="348408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371628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5400000">
            <a:off x="338040" y="4207320"/>
            <a:ext cx="546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36572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333320"/>
            <a:ext cx="6481800" cy="5079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В МЕДИЦИНСКУЮ ОРГАНИЗАЦИЮ, К КОТОРОЙ РАБОТНИК ПРИКРЕПЛЕН ДЛЯ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5400000">
            <a:off x="338040" y="5069160"/>
            <a:ext cx="546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522936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5155560"/>
            <a:ext cx="6481800" cy="5079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О ПИСЬМЕННОМУ ЗАПРОСУ В ФОНД СОЦИАЛЬНОГО СТРАХОВАНИЯ С ПИСЬМЕННОГО СОГЛАСИЯ РАБО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flipV="1" rot="5400000">
            <a:off x="337320" y="245880"/>
            <a:ext cx="54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1266120"/>
            <a:ext cx="7455240" cy="77940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РАБОТНИКИ, ЗАНЯТЫЕ НА РАБОТАХ ВО ВРЕДНЫХ И (ИЛИ) ОПАСНЫХ УСЛОВИЯХ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3164760"/>
            <a:ext cx="4464000" cy="1677960"/>
          </a:xfrm>
          <a:prstGeom prst="wedgeRoundRectCallout">
            <a:avLst>
              <a:gd name="adj1" fmla="val -47236"/>
              <a:gd name="adj2" fmla="val -102055"/>
              <a:gd name="adj3" fmla="val 16667"/>
            </a:avLst>
          </a:prstGeom>
          <a:solidFill>
            <a:srgbClr val="ff505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следующие периодические осмотры у данных категорий работников в центре профпатологии проводятся один раз в пять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930240" y="2389680"/>
            <a:ext cx="2311560" cy="3670200"/>
          </a:xfrm>
          <a:prstGeom prst="flowChartPunchedTape">
            <a:avLst/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Verdana"/>
              </a:rPr>
              <a:t>Первый периодический осмотр в центре профпатологии проводится при стаже работы 5 лет во вредных (опасных) условиях труда (подклассы 3.1 - 3.4 класс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4539800">
            <a:off x="2921040" y="1910880"/>
            <a:ext cx="634680" cy="1365120"/>
          </a:xfrm>
          <a:custGeom>
            <a:avLst/>
            <a:gdLst>
              <a:gd name="textAreaLeft" fmla="*/ 182160 w 634680"/>
              <a:gd name="textAreaRight" fmla="*/ 543600 w 634680"/>
              <a:gd name="textAreaTop" fmla="*/ 786240 h 1365120"/>
              <a:gd name="textAreaBottom" fmla="*/ 116928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3560" y="582840"/>
            <a:ext cx="7618320" cy="213156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1021"/>
                </a:solidFill>
                <a:latin typeface="Verdana"/>
              </a:rPr>
              <a:t>В районах Крайнего Севера и приравненных к ним местностях, а также в случае отсутствия центра профпатологии в населенном пункте, в котором расположен объект производства работ, периодический осмотр работников, имеющих общий трудовой стаж работы 5 лет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3741480"/>
            <a:ext cx="3313080" cy="889560"/>
          </a:xfrm>
          <a:prstGeom prst="wedgeRoundRectCallout">
            <a:avLst>
              <a:gd name="adj1" fmla="val 62925"/>
              <a:gd name="adj2" fmla="val -124875"/>
              <a:gd name="adj3" fmla="val 1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Verdana"/>
              </a:rPr>
              <a:t>может проводиться мобильными медицинскими бригадами врачей-специалистов центров проф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860640"/>
            <a:ext cx="3313080" cy="1677960"/>
          </a:xfrm>
          <a:prstGeom prst="wedgeRoundRectCallout">
            <a:avLst>
              <a:gd name="adj1" fmla="val -43731"/>
              <a:gd name="adj2" fmla="val -89143"/>
              <a:gd name="adj3" fmla="val 1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Verdana"/>
              </a:rPr>
              <a:t>Работники перед проведением периодических осмотров мобильными медицинскими бригадами врачей-специалистов центров профпатологии проходят в медицинских организациях диагностически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5326200"/>
            <a:ext cx="4537080" cy="1218960"/>
          </a:xfrm>
          <a:prstGeom prst="wedgeRoundRectCallout">
            <a:avLst>
              <a:gd name="adj1" fmla="val 46777"/>
              <a:gd name="adj2" fmla="val -224194"/>
              <a:gd name="adj3" fmla="val 1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Verdana"/>
              </a:rPr>
              <a:t>Периодические осмотры работников мобильными медицинскими бригадами врачей-специалистов центров профпатологии могут проводиться в том числе с использованием мобильных медицинских комплек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4560" y="439560"/>
            <a:ext cx="8159760" cy="650880"/>
          </a:xfrm>
          <a:prstGeom prst="rect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МЕДИЦИНСКИЕ ОРГАНИЗАЦИИ , ПРОВОДИВШИЕ ПЕРИОДИЧЕСКИЕ ОСМОТРЫ ПО ИХ ОКОНЧАНИИ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914400" y="1501200"/>
            <a:ext cx="3283200" cy="4464000"/>
          </a:xfrm>
          <a:prstGeom prst="flowChartPunchedTape">
            <a:avLst/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выдают работнику на руки выписку из медицинской карты, в которой отражаются заключения врачей-специалистов, результаты лабораторных и иных исследований, заключение по результатам периодического осмотра, а также рекомендации по профилактике заболеваний, в том числе профессиональных заболеваний, а при наличии медицинских показаний - по дальнейшему наблюдению, лечению и медицинской реабил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2709200">
            <a:off x="3492000" y="1196640"/>
            <a:ext cx="216000" cy="838080"/>
          </a:xfrm>
          <a:prstGeom prst="upArrow">
            <a:avLst>
              <a:gd name="adj1" fmla="val 50000"/>
              <a:gd name="adj2" fmla="val 9700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6142320" y="1725120"/>
            <a:ext cx="2043720" cy="3457440"/>
          </a:xfrm>
          <a:prstGeom prst="flowChartPunchedTape">
            <a:avLst/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направляют копию вып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в медицинскую организацию, к которой работник прикреплен для медицинского обслуживания, с письменного согласия рабо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8154600">
            <a:off x="5709960" y="1100160"/>
            <a:ext cx="215640" cy="1008000"/>
          </a:xfrm>
          <a:prstGeom prst="upArrow">
            <a:avLst>
              <a:gd name="adj1" fmla="val 50000"/>
              <a:gd name="adj2" fmla="val 116861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212000" y="-2621880"/>
            <a:ext cx="984600" cy="675144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Приказ от 28 января 20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№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29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16200000">
            <a:off x="3024000" y="-639360"/>
            <a:ext cx="3384720" cy="76327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1021"/>
                </a:solidFill>
                <a:latin typeface="Verdana"/>
              </a:rPr>
              <a:t>«</a:t>
            </a: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Об утверждении Порядка проведения обязательных предварительных и периодических медицинских осмотров работников, предусмотренных частью четвертой статьи 213 Трудового кодекса Российской Федерации, перечня медицинских противопоказаний к осуществлению работ с вредными и (или) опасными производственными факторами, а также работам, при выполнении которых проводятся обязательные предварительные и периодические медицинские осмотры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875200"/>
            <a:ext cx="3926160" cy="561240"/>
          </a:xfrm>
          <a:prstGeom prst="wedgeRoundRectCallout">
            <a:avLst>
              <a:gd name="adj1" fmla="val 52134"/>
              <a:gd name="adj2" fmla="val -150319"/>
              <a:gd name="adj3" fmla="val 16667"/>
            </a:avLst>
          </a:prstGeom>
          <a:solidFill>
            <a:srgbClr val="ffcc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1021"/>
                </a:solidFill>
                <a:latin typeface="Verdana"/>
              </a:rPr>
              <a:t>ПРИКАЗ ДЕЙ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1021"/>
                </a:solidFill>
                <a:latin typeface="Verdana"/>
              </a:rPr>
              <a:t>ДО 1 АПРЕЛЯ 202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16200000">
            <a:off x="4561920" y="-1893960"/>
            <a:ext cx="523440" cy="525600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ИДЫ МЕДИЦИНСКИХ ОСМО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383120" y="779760"/>
            <a:ext cx="457560" cy="272232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ВАР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870600">
            <a:off x="2124000" y="1052280"/>
            <a:ext cx="276480" cy="495000"/>
          </a:xfrm>
          <a:prstGeom prst="upArrow">
            <a:avLst>
              <a:gd name="adj1" fmla="val 50000"/>
              <a:gd name="adj2" fmla="val 44759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643280" y="1125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505400">
            <a:off x="6815160" y="1011600"/>
            <a:ext cx="289080" cy="576360"/>
          </a:xfrm>
          <a:prstGeom prst="upArrow">
            <a:avLst>
              <a:gd name="adj1" fmla="val 50000"/>
              <a:gd name="adj2" fmla="val 49844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487040" y="844920"/>
            <a:ext cx="457560" cy="259236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ЕРИОД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7400880" y="883800"/>
            <a:ext cx="457560" cy="251460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ВНЕОЧЕРЕ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178520" y="74880"/>
            <a:ext cx="786960" cy="575928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96920" y="4294800"/>
            <a:ext cx="1837800" cy="187344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определения соответствия состояния здоровья лица, поступающего на работу, поручаемой ему работе</a:t>
            </a: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952000" y="3170520"/>
            <a:ext cx="2954160" cy="403560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динамического наблюдения за состоянием здоровья работников, своевременного выявления начальных форм профессиональных заболеваний, ранних признаков воздействия вредных и (или) опасных производственных факторов рабочей среды, трудового процесса на состояние здоровья работников в целях формирования групп риска развития профессиональных заболеваний, выявления медицинских противопоказаний к осуществлению отдельных видов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500360" y="3428640"/>
            <a:ext cx="215640" cy="214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3355400">
            <a:off x="1547640" y="3428280"/>
            <a:ext cx="276480" cy="422280"/>
          </a:xfrm>
          <a:prstGeom prst="upArrow">
            <a:avLst>
              <a:gd name="adj1" fmla="val 50000"/>
              <a:gd name="adj2" fmla="val 38184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035120" y="4038480"/>
            <a:ext cx="1574280" cy="232560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ПРИ НАЛИИ МЕДИЦИНСКИХ РЕКОМЕНДАЦИЙ ПО ИТОГАМ МЕДИЦИНСКИХ ОСМОТРОВ И/ИЛИ ПОСЛЕ НЕТРУДОСПОСОБНОСТИ РАБО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8607600">
            <a:off x="7379640" y="3428640"/>
            <a:ext cx="276120" cy="358920"/>
          </a:xfrm>
          <a:prstGeom prst="upArrow">
            <a:avLst>
              <a:gd name="adj1" fmla="val 50000"/>
              <a:gd name="adj2" fmla="val 3249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276440" y="-2615760"/>
            <a:ext cx="852840" cy="674208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ОВЕДЕНИЕ ПРЕДВАРИТЕЛЬНОГО ИЛИ ПЕРИОДИЧЕСКОГО ОСМОТРА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500360" y="126828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16200000">
            <a:off x="3149280" y="74520"/>
            <a:ext cx="3133800" cy="7067520"/>
          </a:xfrm>
          <a:prstGeom prst="rect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txBody>
          <a:bodyPr anchor="t" vert="eaVer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1021"/>
                </a:solidFill>
                <a:latin typeface="Verdana"/>
              </a:rPr>
              <a:t>учитываются результаты ранее проведенных (не позднее одного года) предварительного или периодического осмотра, диспансеризации, иных медицинских осмотров, подтвержденных медицинскими документами, в том числе полученных путем электронного обмена между медицинскими организациями, за исключением случаев выявления у него симптомов и синдромов заболеваний, свидетельствующих о наличии медицинских показаний для повторного проведения исследований либо иных медицинских мероприятий в рамках предварительного или периодического осмотра</a:t>
            </a:r>
            <a:r>
              <a:rPr b="0" lang="en-US" sz="1600" spc="-1" strike="noStrike">
                <a:solidFill>
                  <a:srgbClr val="fc1021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1021"/>
                </a:solidFill>
                <a:latin typeface="Verdana"/>
              </a:rPr>
              <a:t>ОБРАТИТЕ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376360" y="-135000"/>
            <a:ext cx="4680000" cy="7632720"/>
          </a:xfrm>
          <a:prstGeom prst="flowChartAlternateProcess">
            <a:avLst/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Работодатель вправе организовать лицам, поступающим на работу, прохождение диспансеризации (первого этапа) и (или) ежегодного профилактического медицинского осмотра взрослого населения с целью предоставления результатов врачебной комиссии, необходимых при подготовке заключения по итогам предварительного осмо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При этом стоимость услуг, оказываемых при проведении диспансеризации (первого этапа) и (или) ежегодного профилактического медицинского осмотра и оплачиваемых за счет средств обязательного медицинского страхования, не учитывается в оплате по договору, заключенному с работодателем на проведение предварительн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ДЛЯ ПРОХОЖДЕНИЯ ПРЕДВАРИТЕЛЬНОГО ОСМОТРА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324000" y="1186560"/>
            <a:ext cx="50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ОК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481040"/>
            <a:ext cx="7040520" cy="3402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2130840"/>
            <a:ext cx="7208640" cy="11152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СТРАХОВОЕ СВИДЕТЕЛЬСТВО ОБЯЗАТЕЛЬНОГО ПЕНСИОННОГО СТРАХОВАНИЯ, СОДЕРЖАЩЕЕ СТРАХОВОЙ НОМЕР ИНДИВИДУАЛЬНОГО ЛИЦЕВОГО СЧЕТА ИЛИ ДОКУМЕНТ, ПОДТВЕРЖДАЮЩИЙ РЕГИСТРАЦИЮ В СИСТЕМЕ ИНДИВИДУАЛЬНОГО (ПЕРСОНИФИЦИРОВАННОГО) УЧЕТА В ФОРМЕ ЭЛЕКТРОННОГО ДОКУМЕНТА ИЛИ НА БУМАЖНОМ НОСИТЕ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9360" y="3633840"/>
            <a:ext cx="7030800" cy="3402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ПАСПОРТ (ИЛИ ИНОЙ ДОКУМЕНТ, УДОСТОВЕРЯЮЩИЙ 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4335480"/>
            <a:ext cx="7138800" cy="81252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РЕШЕНИЕ ВРАЧЕБНОЙ КОМИССИИ, ПРОВОДИВШЕЙ ОБЯЗАТЕЛЬНОЕ ПСИХИАТРИЧЕСКОЕ ОСВИДЕТЕЛЬСТВОВАНИЕ (В СЛУЧАЯХ, ПРЕДУСМОТРЕННЫХ ЗАКОНОДАТЕЛЬСТВОМ РОССИЙСКОЙ ФЕДЕРАЦИИ)</a:t>
            </a:r>
            <a:r>
              <a:rPr b="1" i="1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5631480"/>
            <a:ext cx="7062840" cy="3402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ПОЛИС ОБЯЗАТЕЛЬНОГО (ДОБРОВОЛЬНОГО) МЕДИЦИНСКОГО СТРАХ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200000">
            <a:off x="4185720" y="-2812680"/>
            <a:ext cx="853560" cy="72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ПРЕДВАРИТЕЛЬНОГО ОСМОТРА ОФОРМ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393480" y="1266480"/>
            <a:ext cx="5094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55448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ДАТА ВЫДАЧИ ЗАКЛЮ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058480"/>
            <a:ext cx="720072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ФАМИЛИЯ, ИМЯ, ОТЧЕСТВО (ПРИ НАЛИЧИИ), ДАТА РОЖДЕНИЯ, ПОЛ ЛИЦА, ПОСТУПАЮЩЕГО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84364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АИМЕНОВАНИЕ РАБОТОД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426840"/>
            <a:ext cx="712764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ИМЕНОВАНИЕ СТРУКТУРНОГО ПОДРАЗДЕЛЕНИЯ РАБОТОДАТЕЛЯ (ПРИ НАЛИЧИИ), ДОЛЖНОСТИ (ПРОФЕССИИ) ИЛИ ВИ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31964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ИМЕНОВАНИЕ ВРЕДНЫХ И (ИЛИ) ОПАСНЫХ ПРОИЗВОДСТВЕННЫХ ФАКТОРОВ, ВИДОВ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5183280"/>
            <a:ext cx="7127640" cy="9126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ЕЗУЛЬТАТЫ ПРЕДВАРИТЕЛЬНОГО ОСМОТРА: МЕДИЦИНСКИЕ ПРОТИВОПОКАЗАНИЯ К РАБОТЕ (ПЕРЕЧИСЛИТЬ ВРЕДНЫЕ ФАКТОРЫ ИЛИ ВИДЫ РАБОТ, В ОТНОШЕНИИ КОТОРЫХ ВЫЯВЛЕНЫ ПРОТИВОПОКАЗАНИЯ) ИЛИ МЕДИЦИНСКИЕ ПРОТИВОПОКАЗАНИЯ К РАБОТЕ НЕ ВЫЯВЛЕНЫ; ГРУППА ЗДОРОВЬЯ ЛИЦА, ПОСТУПАЮЩЕГО НА РАБО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11280" y="2087640"/>
            <a:ext cx="6515280" cy="30600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Е ПОЗДНЕЕ 5 РАБОЧИХ ДНЕЙ ВЫДАЕТСЯ ЛИЦУ, ПОСТУПАЮЩЕМУ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836640"/>
            <a:ext cx="903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ЗАКЛЮЧЕНИЕ СОСТАВЛЯЕТСЯ </a:t>
            </a:r>
            <a:br>
              <a:rPr sz="2800"/>
            </a:br>
            <a:r>
              <a:rPr b="1" lang="en-US" sz="2800" spc="-1" strike="noStrike">
                <a:solidFill>
                  <a:srgbClr val="fc1021"/>
                </a:solidFill>
                <a:latin typeface="Verdana"/>
              </a:rPr>
              <a:t>В ТРЕХ ЭКЗЕМПЛЯРАХ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455640"/>
            <a:ext cx="6548400" cy="5086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ИОБЩАЕТСЯ К МЕДИЦИНСКОЙ КАРТЕ, ОФОРМЛЯЕМОЙ В МЕДИЦИНСКОЙ ОРГАНИЗАЦИИ, В КОТОРОЙ ПРОВОДИЛСЯ ПРЕДВАРИТЕЛЬНЫЙ ОСМО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4866120"/>
            <a:ext cx="6486480" cy="30600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НАПРАВЛЯЕТСЯ РАБОТОД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94400" y="1973520"/>
            <a:ext cx="54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205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158760" y="3377880"/>
            <a:ext cx="54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573360"/>
            <a:ext cx="649080" cy="216000"/>
          </a:xfrm>
          <a:custGeom>
            <a:avLst/>
            <a:gdLst>
              <a:gd name="textAreaLeft" fmla="*/ 0 w 649080"/>
              <a:gd name="textAreaRight" fmla="*/ 649440 w 649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5400000">
            <a:off x="230040" y="4745520"/>
            <a:ext cx="54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94172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021"/>
                </a:solidFill>
                <a:latin typeface="Verdana"/>
              </a:rPr>
              <a:t>ПЕРИОДИЧЕСКИЕ МЕДИЦИНСКИЕ ОСМОТРЫ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774440"/>
            <a:ext cx="3598920" cy="1251360"/>
          </a:xfrm>
          <a:prstGeom prst="rightArrowCallout">
            <a:avLst>
              <a:gd name="adj1" fmla="val 25002"/>
              <a:gd name="adj2" fmla="val 25000"/>
              <a:gd name="adj3" fmla="val 47933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Частота проведения периодических медицинских осмо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35280"/>
            <a:ext cx="4842000" cy="152064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определяется типами вредных и (или) опасных производственных факторов, воздействующих на работника, или видами выполняем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4294080"/>
            <a:ext cx="3598920" cy="1038600"/>
          </a:xfrm>
          <a:prstGeom prst="rightArrowCallout">
            <a:avLst>
              <a:gd name="adj1" fmla="val 25002"/>
              <a:gd name="adj2" fmla="val 25000"/>
              <a:gd name="adj3" fmla="val 57753"/>
              <a:gd name="adj4" fmla="val 66667"/>
            </a:avLst>
          </a:prstGeom>
          <a:solidFill>
            <a:srgbClr val="ffcc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1021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проходят периодические осмотры ежего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291560"/>
            <a:ext cx="4825800" cy="1148760"/>
          </a:xfrm>
          <a:prstGeom prst="roundRect">
            <a:avLst>
              <a:gd name="adj" fmla="val 16667"/>
            </a:avLst>
          </a:prstGeom>
          <a:solidFill>
            <a:srgbClr val="ffffff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Работники в возрасте до 21 года, занятые на работах с вредными и (или) опасными условиями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1-03-29T12:50:36Z</dcterms:modified>
  <cp:revision>54</cp:revision>
  <dc:subject/>
  <dc:title>Организация службы охраны труда на предприятии</dc:title>
</cp:coreProperties>
</file>