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png" ContentType="image/png"/>
  <Override PartName="/ppt/media/image51.jpeg" ContentType="image/jpeg"/>
  <Override PartName="/ppt/media/image49.wmf" ContentType="image/x-wmf"/>
  <Override PartName="/ppt/media/image48.wmf" ContentType="image/x-wmf"/>
  <Override PartName="/ppt/media/image33.jpeg" ContentType="image/jpeg"/>
  <Override PartName="/ppt/media/image9.png" ContentType="image/png"/>
  <Override PartName="/ppt/media/image22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72.jpeg" ContentType="image/jpeg"/>
  <Override PartName="/ppt/media/image15.jpeg" ContentType="image/jpeg"/>
  <Override PartName="/ppt/media/image26.wmf" ContentType="image/x-wmf"/>
  <Override PartName="/ppt/media/image67.jpeg" ContentType="image/jpeg"/>
  <Override PartName="/ppt/media/image45.wmf" ContentType="image/x-wmf"/>
  <Override PartName="/ppt/media/image17.jpeg" ContentType="image/jpeg"/>
  <Override PartName="/ppt/media/image20.jpeg" ContentType="image/jpeg"/>
  <Override PartName="/ppt/media/image21.jpeg" ContentType="image/jpeg"/>
  <Override PartName="/ppt/media/image27.wmf" ContentType="image/x-wmf"/>
  <Override PartName="/ppt/media/image71.jpeg" ContentType="image/jpeg"/>
  <Override PartName="/ppt/media/image66.jpeg" ContentType="image/jpeg"/>
  <Override PartName="/ppt/media/image11.png" ContentType="image/png"/>
  <Override PartName="/ppt/media/image70.jpeg" ContentType="image/jpeg"/>
  <Override PartName="/ppt/media/image35.png" ContentType="image/png"/>
  <Override PartName="/ppt/media/image50.wmf" ContentType="image/x-wmf"/>
  <Override PartName="/ppt/media/image43.jpeg" ContentType="image/jpeg"/>
  <Override PartName="/ppt/media/image65.jpeg" ContentType="image/jpeg"/>
  <Override PartName="/ppt/media/image8.jpeg" ContentType="image/jpeg"/>
  <Override PartName="/ppt/media/image38.png" ContentType="image/png"/>
  <Override PartName="/ppt/media/image5.png" ContentType="image/png"/>
  <Override PartName="/ppt/media/image39.jpeg" ContentType="image/jpeg"/>
  <Override PartName="/ppt/media/image68.jpeg" ContentType="image/jpeg"/>
  <Override PartName="/ppt/media/image64.jpeg" ContentType="image/jpeg"/>
  <Override PartName="/ppt/media/image7.jpeg" ContentType="image/jpeg"/>
  <Override PartName="/ppt/media/image63.jpeg" ContentType="image/jpeg"/>
  <Override PartName="/ppt/media/image18.jpeg" ContentType="image/jpeg"/>
  <Override PartName="/ppt/media/image62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73.wmf" ContentType="image/x-wmf"/>
  <Override PartName="/ppt/media/image60.jpeg" ContentType="image/jpeg"/>
  <Override PartName="/ppt/media/image3.jpeg" ContentType="image/jpeg"/>
  <Override PartName="/ppt/media/image37.jpeg" ContentType="image/jpeg"/>
  <Override PartName="/ppt/media/image42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25.jpeg" ContentType="image/jpeg"/>
  <Override PartName="/ppt/media/image36.png" ContentType="image/png"/>
  <Override PartName="/ppt/media/image19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9.jpeg" ContentType="image/jpeg"/>
  <Override PartName="/ppt/media/image30.jpeg" ContentType="image/jpeg"/>
  <Override PartName="/ppt/media/image28.wmf" ContentType="image/x-wmf"/>
  <Override PartName="/ppt/media/image31.jpeg" ContentType="image/jpeg"/>
  <Override PartName="/ppt/media/image32.jpeg" ContentType="image/jpeg"/>
  <Override PartName="/ppt/media/image34.jpeg" ContentType="image/jpeg"/>
  <Override PartName="/ppt/media/image41.jpeg" ContentType="image/jpeg"/>
  <Override PartName="/ppt/media/image44.wmf" ContentType="image/x-wmf"/>
  <Override PartName="/ppt/media/image46.wmf" ContentType="image/x-wmf"/>
  <Override PartName="/ppt/media/image6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4619-C276-419C-9CD9-A9817B0133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DA30-082E-4676-B8F8-7776DE26E6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523B-5F03-4C5F-80F6-C6B94DFA4D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C011-7096-4505-8930-C4887F5E3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0C7F-C2F3-4C86-BCF6-DD86C14BB9C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5BFD-5BE6-4C0F-9A3E-492C80CDB35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A821-4CBB-4B21-BE2F-870E9A40158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AD60-C22F-4E4E-B1C2-4D48281959B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AE65-4B96-4182-ACDC-B14761956F0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5092-7A1E-4875-B30D-FB64EF3832B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B719-5235-4827-A9C8-B2DF00E6746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57B2-10B2-496C-A455-4D6A07A2B13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F1DA-103C-4E25-8B50-753FE6BE7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A635-1F12-49AB-AFE1-038AF93FB3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51E5-5E46-4C2E-83BA-9FD9FE8B21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C1F1-0E05-4A0C-A518-16789ADDAE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5B8E-FCDB-4C1E-AD0B-31A7FAC914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82AA-11AE-4689-9D38-B9E37B41DD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2925-26C8-441A-818A-6786B7E80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AA64-9E5C-480F-9194-7686201CA1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567E-BD72-42F2-A1D3-8B74F3EF8C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BCBD-564F-473A-98DC-13FA0FB49C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8701-A6CC-4021-8A4B-7C97FC2971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11B-8A02-4E02-BB0B-A379B7E0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013-26C6-4B28-9795-6714E531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2EA-E9AF-4247-A819-B2EB5BBE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3BB-A3A4-4900-9CCB-219D3391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745D-85E3-4759-A980-C25C897E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D6CE-8500-497A-ADE6-85CF52C3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7051-1937-4083-AFE9-61F9D21F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EA2F-32B0-4D20-88C4-57DF6A3F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19BA-B134-4F7D-824D-7CEF86D0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58A0-9BF3-4AB3-8792-AE8D7678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E7C7-7CD5-4642-BB98-3F5A7AEC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D90-8CFF-458F-A6CD-B4E943E3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820F-074F-47B3-BC03-4BCA4EDC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2544-3EEF-48D3-81FF-0BD69748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E889-079A-43E7-96CD-9F2AFA96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B676-D299-4C09-8CAA-97A55455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F077-193B-4DC5-ABAD-B1E08399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68A4C-05C4-40EE-AD67-BFF4C079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7AC18-4677-4F02-8EA5-593AE561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79C14-BEF8-427E-95A4-71E024D6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FB93C-4A1B-49F6-AB6D-57DE8C2F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FA1F6-799A-44B7-AAA6-4A4EF4C4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4CA-10BE-4F05-B0F9-093869A4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1BEA6-7193-4FBE-987F-1CE4DC39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43844-925E-4CA6-A4F9-AB2E30A8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6D830-649F-41B7-9596-BD85D08A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8F45B-38F0-4F8C-A202-04A81850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4AFB7-E9CE-4495-9DE5-CBA50D35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51419-E011-47EF-8C99-4A33E0AF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51BCC-DF5B-4B64-AEC2-475B1A5B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E441-5D1E-4D8A-9E51-E473C391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A78-B6B8-403B-890F-DE81EFF9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FD0-56AB-45FD-8E26-201963E9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DA9-AD8E-4FB7-B1C7-9413CAB7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EF0-5724-4E35-BF83-73930D89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B81-E0B6-41EB-854D-32ABE503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63E7-FDF7-4F7A-BD27-A9B57FC190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4CAE-D575-4396-B921-07A7FC88AE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FCD0-1523-4A10-A352-B5F14D0F1C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png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" Target="slide9.xml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678168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Процедура управления и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 профессиональными  рисками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250560" y="3789360"/>
            <a:ext cx="705780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risk-11"/>
          <p:cNvPicPr/>
          <p:nvPr/>
        </p:nvPicPr>
        <p:blipFill>
          <a:blip r:embed="rId1"/>
          <a:stretch/>
        </p:blipFill>
        <p:spPr>
          <a:xfrm>
            <a:off x="108000" y="3141720"/>
            <a:ext cx="7161120" cy="2566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1" descr="riski-1024x1024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6"/>
          <p:cNvSpPr/>
          <p:nvPr/>
        </p:nvSpPr>
        <p:spPr>
          <a:xfrm>
            <a:off x="804960" y="84240"/>
            <a:ext cx="73803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Подпроцессы управления рисками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2201760" y="673200"/>
            <a:ext cx="4538880" cy="37116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выявление опас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282600" y="1125360"/>
            <a:ext cx="26287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входные д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Прямая со стрелкой 5"/>
          <p:cNvCxnSpPr/>
          <p:nvPr/>
        </p:nvCxnSpPr>
        <p:spPr>
          <a:xfrm>
            <a:off x="1379160" y="1763640"/>
            <a:ext cx="1664280" cy="4197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68" name="Прямая со стрелкой 7"/>
          <p:cNvCxnSpPr/>
          <p:nvPr/>
        </p:nvCxnSpPr>
        <p:spPr>
          <a:xfrm flipV="1">
            <a:off x="1207800" y="2230200"/>
            <a:ext cx="1835640" cy="86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69" name="Прямая со стрелкой 9"/>
          <p:cNvCxnSpPr/>
          <p:nvPr/>
        </p:nvCxnSpPr>
        <p:spPr>
          <a:xfrm flipV="1">
            <a:off x="1379160" y="2283840"/>
            <a:ext cx="1664280" cy="6166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70" name="TextBox 10"/>
          <p:cNvSpPr/>
          <p:nvPr/>
        </p:nvSpPr>
        <p:spPr>
          <a:xfrm>
            <a:off x="282600" y="1601640"/>
            <a:ext cx="1096920" cy="307080"/>
          </a:xfrm>
          <a:prstGeom prst="rect">
            <a:avLst/>
          </a:prstGeom>
          <a:noFill/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ку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1"/>
          <p:cNvSpPr/>
          <p:nvPr/>
        </p:nvSpPr>
        <p:spPr>
          <a:xfrm>
            <a:off x="90360" y="2092320"/>
            <a:ext cx="1096920" cy="307080"/>
          </a:xfrm>
          <a:prstGeom prst="rect">
            <a:avLst/>
          </a:prstGeom>
          <a:noFill/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ати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2"/>
          <p:cNvSpPr/>
          <p:nvPr/>
        </p:nvSpPr>
        <p:spPr>
          <a:xfrm>
            <a:off x="149400" y="2719440"/>
            <a:ext cx="1230120" cy="307080"/>
          </a:xfrm>
          <a:prstGeom prst="rect">
            <a:avLst/>
          </a:prstGeom>
          <a:noFill/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3043080" y="1763640"/>
            <a:ext cx="2040120" cy="916920"/>
          </a:xfrm>
          <a:prstGeom prst="rect">
            <a:avLst/>
          </a:prstGeom>
          <a:noFill/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исание и ранжирование опас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2454120" y="1154160"/>
            <a:ext cx="26290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5746680" y="1185840"/>
            <a:ext cx="26290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выходные д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3"/>
          <p:cNvSpPr/>
          <p:nvPr/>
        </p:nvSpPr>
        <p:spPr>
          <a:xfrm>
            <a:off x="5925960" y="1755720"/>
            <a:ext cx="2268720" cy="916920"/>
          </a:xfrm>
          <a:prstGeom prst="rect">
            <a:avLst/>
          </a:prstGeom>
          <a:noFill/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естр опас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Прямая со стрелкой 25"/>
          <p:cNvCxnSpPr>
            <a:stCxn id="273" idx="3"/>
            <a:endCxn id="276" idx="1"/>
          </p:cNvCxnSpPr>
          <p:nvPr/>
        </p:nvCxnSpPr>
        <p:spPr>
          <a:xfrm flipV="1">
            <a:off x="5082840" y="2217240"/>
            <a:ext cx="843480" cy="86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78" name="TextBox 6"/>
          <p:cNvSpPr/>
          <p:nvPr/>
        </p:nvSpPr>
        <p:spPr>
          <a:xfrm>
            <a:off x="3348000" y="2820960"/>
            <a:ext cx="2448000" cy="37116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оценка ри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149400" y="3336840"/>
            <a:ext cx="26287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входные д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1"/>
          <p:cNvSpPr/>
          <p:nvPr/>
        </p:nvSpPr>
        <p:spPr>
          <a:xfrm>
            <a:off x="509760" y="3780000"/>
            <a:ext cx="2268360" cy="916920"/>
          </a:xfrm>
          <a:prstGeom prst="rect">
            <a:avLst/>
          </a:prstGeom>
          <a:noFill/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естр опас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Прямая со стрелкой 33"/>
          <p:cNvCxnSpPr>
            <a:endCxn id="282" idx="1"/>
          </p:cNvCxnSpPr>
          <p:nvPr/>
        </p:nvCxnSpPr>
        <p:spPr>
          <a:xfrm>
            <a:off x="2778120" y="4260600"/>
            <a:ext cx="667440" cy="10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82" name="TextBox 34"/>
          <p:cNvSpPr/>
          <p:nvPr/>
        </p:nvSpPr>
        <p:spPr>
          <a:xfrm>
            <a:off x="3444840" y="3798720"/>
            <a:ext cx="1979640" cy="916920"/>
          </a:xfrm>
          <a:prstGeom prst="rect">
            <a:avLst/>
          </a:prstGeom>
          <a:noFill/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ценка уровня р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2664000" y="3309840"/>
            <a:ext cx="26287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6226200" y="3257640"/>
            <a:ext cx="26287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выходные д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7"/>
          <p:cNvSpPr/>
          <p:nvPr/>
        </p:nvSpPr>
        <p:spPr>
          <a:xfrm>
            <a:off x="6062760" y="3720960"/>
            <a:ext cx="2568600" cy="916920"/>
          </a:xfrm>
          <a:prstGeom prst="rect">
            <a:avLst/>
          </a:prstGeom>
          <a:noFill/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н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Прямая со стрелкой 40"/>
          <p:cNvCxnSpPr/>
          <p:nvPr/>
        </p:nvCxnSpPr>
        <p:spPr>
          <a:xfrm>
            <a:off x="5424480" y="4241520"/>
            <a:ext cx="667440" cy="10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87" name="TextBox 6"/>
          <p:cNvSpPr/>
          <p:nvPr/>
        </p:nvSpPr>
        <p:spPr>
          <a:xfrm>
            <a:off x="1833480" y="4805280"/>
            <a:ext cx="5834160" cy="37116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мероприятия по снижению уровней рис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6"/>
          <p:cNvSpPr/>
          <p:nvPr/>
        </p:nvSpPr>
        <p:spPr>
          <a:xfrm>
            <a:off x="149400" y="5214960"/>
            <a:ext cx="26287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входные д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3"/>
          <p:cNvSpPr/>
          <p:nvPr/>
        </p:nvSpPr>
        <p:spPr>
          <a:xfrm>
            <a:off x="509760" y="5584680"/>
            <a:ext cx="2268360" cy="368280"/>
          </a:xfrm>
          <a:prstGeom prst="rect">
            <a:avLst/>
          </a:prstGeom>
          <a:noFill/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н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Прямая со стрелкой 44"/>
          <p:cNvCxnSpPr/>
          <p:nvPr/>
        </p:nvCxnSpPr>
        <p:spPr>
          <a:xfrm flipV="1">
            <a:off x="2771640" y="5725440"/>
            <a:ext cx="667440" cy="10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91" name="TextBox 45"/>
          <p:cNvSpPr/>
          <p:nvPr/>
        </p:nvSpPr>
        <p:spPr>
          <a:xfrm>
            <a:off x="3438360" y="5587920"/>
            <a:ext cx="1979640" cy="916920"/>
          </a:xfrm>
          <a:prstGeom prst="rect">
            <a:avLst/>
          </a:prstGeom>
          <a:noFill/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лизация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"/>
          <p:cNvSpPr/>
          <p:nvPr/>
        </p:nvSpPr>
        <p:spPr>
          <a:xfrm>
            <a:off x="6032520" y="5108400"/>
            <a:ext cx="26287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выходные д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7"/>
          <p:cNvSpPr/>
          <p:nvPr/>
        </p:nvSpPr>
        <p:spPr>
          <a:xfrm>
            <a:off x="6048360" y="5716440"/>
            <a:ext cx="2568600" cy="916920"/>
          </a:xfrm>
          <a:prstGeom prst="rect">
            <a:avLst/>
          </a:prstGeom>
          <a:noFill/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ижение уровня рисков при повторной оце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Прямая со стрелкой 48"/>
          <p:cNvCxnSpPr/>
          <p:nvPr/>
        </p:nvCxnSpPr>
        <p:spPr>
          <a:xfrm>
            <a:off x="5380200" y="6040080"/>
            <a:ext cx="668880" cy="10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95" name="TextBox 6"/>
          <p:cNvSpPr/>
          <p:nvPr/>
        </p:nvSpPr>
        <p:spPr>
          <a:xfrm>
            <a:off x="2751120" y="5132520"/>
            <a:ext cx="26290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Communication Clipart - New Stock Communication Designs by Some Of the Best Online 3D Vector Illustrators Online - Page 6"/>
          <p:cNvPicPr/>
          <p:nvPr/>
        </p:nvPicPr>
        <p:blipFill>
          <a:blip r:embed="rId1"/>
          <a:stretch/>
        </p:blipFill>
        <p:spPr>
          <a:xfrm>
            <a:off x="5486400" y="5035680"/>
            <a:ext cx="1684440" cy="1265040"/>
          </a:xfrm>
          <a:prstGeom prst="rect">
            <a:avLst/>
          </a:prstGeom>
          <a:ln w="0">
            <a:noFill/>
          </a:ln>
        </p:spPr>
      </p:pic>
      <p:sp>
        <p:nvSpPr>
          <p:cNvPr id="297" name="Заголовок 1"/>
          <p:cNvSpPr/>
          <p:nvPr/>
        </p:nvSpPr>
        <p:spPr>
          <a:xfrm>
            <a:off x="324000" y="332280"/>
            <a:ext cx="60022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Сход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"/>
          <p:cNvSpPr/>
          <p:nvPr/>
        </p:nvSpPr>
        <p:spPr>
          <a:xfrm>
            <a:off x="223920" y="1149480"/>
            <a:ext cx="610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Идентификация опас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Обоснование, планирование и финансирование мероприятий по улучшению условий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Информирование работников об условиях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Накопление статистических данных об условиях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Включение в трудовой договор характеристики условий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Коллективная работа (комиссия по СОУТ, оценочная команда при оценивании рис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9637479_51514ab7053bf"/>
          <p:cNvPicPr/>
          <p:nvPr/>
        </p:nvPicPr>
        <p:blipFill>
          <a:blip r:embed="rId2"/>
          <a:stretch/>
        </p:blipFill>
        <p:spPr>
          <a:xfrm>
            <a:off x="6326280" y="1454040"/>
            <a:ext cx="1130040" cy="851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tovar-147625"/>
          <p:cNvPicPr/>
          <p:nvPr/>
        </p:nvPicPr>
        <p:blipFill>
          <a:blip r:embed="rId3"/>
          <a:stretch/>
        </p:blipFill>
        <p:spPr>
          <a:xfrm>
            <a:off x="4541760" y="582480"/>
            <a:ext cx="1005120" cy="1135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Киевский центр НЛП и тренингов: Вербальное общение Вербальна…"/>
          <p:cNvPicPr/>
          <p:nvPr/>
        </p:nvPicPr>
        <p:blipFill>
          <a:blip r:embed="rId4"/>
          <a:stretch/>
        </p:blipFill>
        <p:spPr>
          <a:xfrm>
            <a:off x="7456320" y="2305080"/>
            <a:ext cx="887760" cy="944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Материалы за Июнь 2010 года &quot; . Source nextOne games"/>
          <p:cNvPicPr/>
          <p:nvPr/>
        </p:nvPicPr>
        <p:blipFill>
          <a:blip r:embed="rId5"/>
          <a:stretch/>
        </p:blipFill>
        <p:spPr>
          <a:xfrm>
            <a:off x="6195960" y="3162240"/>
            <a:ext cx="934920" cy="7034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2012"/>
          <p:cNvPicPr/>
          <p:nvPr/>
        </p:nvPicPr>
        <p:blipFill>
          <a:blip r:embed="rId6"/>
          <a:stretch/>
        </p:blipFill>
        <p:spPr>
          <a:xfrm>
            <a:off x="6710400" y="3965400"/>
            <a:ext cx="1493640" cy="10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Заголовок 1"/>
          <p:cNvSpPr/>
          <p:nvPr/>
        </p:nvSpPr>
        <p:spPr>
          <a:xfrm>
            <a:off x="1117440" y="189360"/>
            <a:ext cx="5256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Различ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5"/>
          <p:cNvSpPr/>
          <p:nvPr/>
        </p:nvSpPr>
        <p:spPr>
          <a:xfrm>
            <a:off x="187200" y="849240"/>
            <a:ext cx="5946840" cy="5338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aramond"/>
                <a:ea typeface="Arial"/>
              </a:rPr>
              <a:t>Влияние на скидки к страховым тариф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aramond"/>
                <a:ea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Garamond"/>
                <a:ea typeface="Arial"/>
              </a:rPr>
              <a:t>Создание банка данных органов исполнительной власти различных уров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aramond"/>
                <a:ea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Garamond"/>
                <a:ea typeface="Arial"/>
              </a:rPr>
              <a:t>Проведение мероприятий по надзору и контролю за соблюдением законод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aramond"/>
                <a:ea typeface="Arial"/>
              </a:rPr>
              <a:t>  </a:t>
            </a:r>
            <a:r>
              <a:rPr b="0" lang="en-US" sz="2800" spc="-1" strike="noStrike">
                <a:solidFill>
                  <a:srgbClr val="002060"/>
                </a:solidFill>
                <a:latin typeface="Garamond"/>
                <a:ea typeface="Arial"/>
              </a:rPr>
              <a:t>Обоснование предоставления доплат и компенсаций работникам</a:t>
            </a:r>
            <a:r>
              <a:rPr b="1" lang="en-US" sz="2800" spc="-1" strike="noStrike">
                <a:solidFill>
                  <a:srgbClr val="002060"/>
                </a:solidFill>
                <a:latin typeface="Garamond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" descr="business communication - the argument из Kelly Young, Роялти-фри стоковое фото #629791 на Fotolia.ru"/>
          <p:cNvPicPr/>
          <p:nvPr/>
        </p:nvPicPr>
        <p:blipFill>
          <a:blip r:embed="rId1"/>
          <a:stretch/>
        </p:blipFill>
        <p:spPr>
          <a:xfrm>
            <a:off x="6326280" y="1527120"/>
            <a:ext cx="2735280" cy="41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6"/>
          <p:cNvSpPr/>
          <p:nvPr/>
        </p:nvSpPr>
        <p:spPr>
          <a:xfrm>
            <a:off x="250920" y="1413000"/>
            <a:ext cx="84978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нные плановых инспекций, СОУТ, производственного контро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зор прошлых происшествий, травм, отчетов по первой медицинской помощ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отсутствие зарегистрированных происшествий  не должно автоматически рассматриваться в качест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дположения о низком уровне риск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четы по техническому обслуживанию зданий и соору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чие процедуры и инстру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ководства по эксплуатации обору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7"/>
          <p:cNvSpPr/>
          <p:nvPr/>
        </p:nvSpPr>
        <p:spPr>
          <a:xfrm>
            <a:off x="179280" y="260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04d"/>
                </a:solidFill>
                <a:latin typeface="Arial"/>
              </a:rPr>
              <a:t>Информационные источ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04d"/>
                </a:solidFill>
                <a:latin typeface="Arial"/>
              </a:rPr>
              <a:t>оценки рис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6"/>
          <p:cNvSpPr/>
          <p:nvPr/>
        </p:nvSpPr>
        <p:spPr>
          <a:xfrm>
            <a:off x="108000" y="981000"/>
            <a:ext cx="849636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околы совещаний по охране труда и других совещ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ос сотруд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тистические данные по травмам, обращениям за медицинской помощью, использование аптечек первой помощ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росы об опасностях оборудования от произв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упреждения о происшествиях от других отраслевых организ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и рисков, проведенные другими организациями отра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79280" y="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04d"/>
                </a:solidFill>
                <a:latin typeface="Arial"/>
              </a:rPr>
              <a:t>Информационные источ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04d"/>
                </a:solidFill>
                <a:latin typeface="Arial"/>
              </a:rPr>
              <a:t>оценки рис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Документация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2" name="Picture 1" descr=""/>
          <p:cNvPicPr/>
          <p:nvPr/>
        </p:nvPicPr>
        <p:blipFill>
          <a:blip r:embed="rId1"/>
          <a:stretch/>
        </p:blipFill>
        <p:spPr>
          <a:xfrm>
            <a:off x="0" y="4508640"/>
            <a:ext cx="4024440" cy="213336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5"/>
          <p:cNvSpPr/>
          <p:nvPr/>
        </p:nvSpPr>
        <p:spPr>
          <a:xfrm>
            <a:off x="0" y="765000"/>
            <a:ext cx="788508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 начала процед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ать Положение о системе управления охраной труда в учрежд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судить и утвердить Политику протоколом заседания комиссии по охране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ать Положение о проведении процедуры оценки профессиональных ри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дать приказ о проведении плановой идентификации опасностей и определении уровней рисков в области охраны труд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7"/>
          <p:cNvSpPr/>
          <p:nvPr/>
        </p:nvSpPr>
        <p:spPr>
          <a:xfrm>
            <a:off x="3995640" y="3716280"/>
            <a:ext cx="5148360" cy="27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ле проведения процед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каз о введении в действие карт идентификации опасностей и определения уровней ри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тверждение перечня идентифицированных опас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ка перечня мер по исключению или снижению уровней профессиональных риск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дение процедуры информирования работников (внесение дополнений в Т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26004d"/>
                </a:solidFill>
                <a:latin typeface="Arial"/>
              </a:rPr>
              <a:t>Что входит в процедуру управления профессиональными рисками?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68360" y="278136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ие конкретно операции и с какой частотой совершают работники на своих рабочих мес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явление опасностей (рисков) для каждой такой опе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ение количества и частоты опасных опер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иск технических и административных возможностей для снижения тяжести выявленного риска или его полного устра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ализ выявленных рисков и расчет их знач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роприятия по снижению рис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формирование работников о наличии и уровне профессиональных рисков на их рабочих мес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дача документов по оценке рисков (карта оценки профессиональных рисков на каждое рабочее мест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5" descr="1kHwlvmtz-E"/>
          <p:cNvPicPr/>
          <p:nvPr/>
        </p:nvPicPr>
        <p:blipFill>
          <a:blip r:embed="rId1"/>
          <a:stretch/>
        </p:blipFill>
        <p:spPr>
          <a:xfrm>
            <a:off x="0" y="836640"/>
            <a:ext cx="2592360" cy="194292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5"/>
          <p:cNvSpPr/>
          <p:nvPr/>
        </p:nvSpPr>
        <p:spPr>
          <a:xfrm>
            <a:off x="2700360" y="907920"/>
            <a:ext cx="5688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авление перечня профессий и рабочих мест, на которых намечено провести оценку рис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точнение количества работающи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аждом рабочем месте, подлежащем оценке профессионального р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7"/>
          <p:cNvSpPr/>
          <p:nvPr/>
        </p:nvSpPr>
        <p:spPr>
          <a:xfrm>
            <a:off x="2700360" y="18900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04d"/>
                </a:solidFill>
                <a:latin typeface="Arial"/>
              </a:rPr>
              <a:t>СОЗД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04d"/>
                </a:solidFill>
                <a:latin typeface="Arial"/>
              </a:rPr>
              <a:t>ОЦЕНОЧНОЙ  КОМИ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9" descr="46cc70"/>
          <p:cNvPicPr/>
          <p:nvPr/>
        </p:nvPicPr>
        <p:blipFill>
          <a:blip r:embed="rId1"/>
          <a:stretch/>
        </p:blipFill>
        <p:spPr>
          <a:xfrm>
            <a:off x="0" y="0"/>
            <a:ext cx="2556000" cy="191628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5"/>
          <p:cNvSpPr/>
          <p:nvPr/>
        </p:nvSpPr>
        <p:spPr>
          <a:xfrm>
            <a:off x="2411280" y="119700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ценка рисков является комплексной задачей и  выполняется силами коллектив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8"/>
          <p:cNvSpPr/>
          <p:nvPr/>
        </p:nvSpPr>
        <p:spPr>
          <a:xfrm>
            <a:off x="144360" y="191628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ринцип Р-С-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9"/>
          <p:cNvSpPr/>
          <p:nvPr/>
        </p:nvSpPr>
        <p:spPr>
          <a:xfrm>
            <a:off x="330840" y="26370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0"/>
          <p:cNvSpPr/>
          <p:nvPr/>
        </p:nvSpPr>
        <p:spPr>
          <a:xfrm>
            <a:off x="250920" y="24922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сший </a:t>
            </a:r>
            <a:r>
              <a:rPr b="1" lang="en-US" sz="2400" spc="-1" strike="noStrike">
                <a:solidFill>
                  <a:srgbClr val="26004d"/>
                </a:solidFill>
                <a:latin typeface="Arial"/>
              </a:rPr>
              <a:t>руководитель</a:t>
            </a:r>
            <a:r>
              <a:rPr b="1" lang="en-US" sz="1800" spc="-1" strike="noStrike">
                <a:solidFill>
                  <a:srgbClr val="2600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ли руководитель структурного подраз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5" descr="MCBD05515_0000[1]"/>
          <p:cNvPicPr/>
          <p:nvPr/>
        </p:nvPicPr>
        <p:blipFill>
          <a:blip r:embed="rId2"/>
          <a:stretch/>
        </p:blipFill>
        <p:spPr>
          <a:xfrm>
            <a:off x="4356000" y="2349360"/>
            <a:ext cx="1206720" cy="129708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12"/>
          <p:cNvSpPr/>
          <p:nvPr/>
        </p:nvSpPr>
        <p:spPr>
          <a:xfrm>
            <a:off x="250920" y="3573360"/>
            <a:ext cx="20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004d"/>
                </a:solidFill>
                <a:latin typeface="Arial"/>
              </a:rPr>
              <a:t>Специа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13"/>
          <p:cNvSpPr/>
          <p:nvPr/>
        </p:nvSpPr>
        <p:spPr>
          <a:xfrm>
            <a:off x="250920" y="4005360"/>
            <a:ext cx="604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ециалисты со стороны – консультанты, эксперты Центров охраны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ои специалисты –  специалист по охране труда, члены оценочной комиссии, представитель технического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3" descr="MCj02374800000[1]"/>
          <p:cNvPicPr/>
          <p:nvPr/>
        </p:nvPicPr>
        <p:blipFill>
          <a:blip r:embed="rId3"/>
          <a:stretch/>
        </p:blipFill>
        <p:spPr>
          <a:xfrm>
            <a:off x="5940360" y="3789360"/>
            <a:ext cx="1656000" cy="134136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15"/>
          <p:cNvSpPr/>
          <p:nvPr/>
        </p:nvSpPr>
        <p:spPr>
          <a:xfrm>
            <a:off x="326520" y="55897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004d"/>
                </a:solidFill>
                <a:latin typeface="Arial"/>
              </a:rPr>
              <a:t>Рабо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8" descr="MCj02923160000[1]"/>
          <p:cNvPicPr/>
          <p:nvPr/>
        </p:nvPicPr>
        <p:blipFill>
          <a:blip r:embed="rId4"/>
          <a:stretch/>
        </p:blipFill>
        <p:spPr>
          <a:xfrm>
            <a:off x="6372360" y="5300640"/>
            <a:ext cx="1726920" cy="132876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17"/>
          <p:cNvSpPr/>
          <p:nvPr/>
        </p:nvSpPr>
        <p:spPr>
          <a:xfrm>
            <a:off x="339480" y="6021360"/>
            <a:ext cx="571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ставители трудового коллекти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полномоченное (доверенное) лицо профсою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92120" y="4359240"/>
            <a:ext cx="8020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Методы оценки уровня профессиональных рис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http://byfin.by/assets/images/articles/ocenki_riska.jpg"/>
          <p:cNvPicPr/>
          <p:nvPr/>
        </p:nvPicPr>
        <p:blipFill>
          <a:blip r:embed="rId1"/>
          <a:stretch/>
        </p:blipFill>
        <p:spPr>
          <a:xfrm>
            <a:off x="0" y="0"/>
            <a:ext cx="5952960" cy="40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Методы оценки 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профессионального риск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ямые (статистические, ретроспективные) методы оценки профессионального рис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004d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26004d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004d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26004d"/>
                </a:solidFill>
                <a:latin typeface="Times New Roman"/>
              </a:rPr>
              <a:t>Эти методы используют статистическую информацию по выбранным показателям риска или непосредственно показатели ущерба и вероятности их наступ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004d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26004d"/>
                </a:solidFill>
                <a:latin typeface="Times New Roman"/>
              </a:rPr>
              <a:t>Это оценка риска «постфактум», когда опасность уже реализовалась и привела к тем или иным негативным последств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освенные (априорные) методы оценки профессионального риска.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6004d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26004d"/>
                </a:solidFill>
                <a:latin typeface="Times New Roman"/>
                <a:ea typeface="Times New Roman"/>
              </a:rPr>
              <a:t>Эти методы оценки рисков для здоровья и жизни работников используют показатели и подразумевают: аудит (интервью, опрос сотрудников), аудит безопасного поведения, аудит организации рабочих мест и прочее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7" descr="0*KzwH_ONptXTHrozC"/>
          <p:cNvPicPr/>
          <p:nvPr/>
        </p:nvPicPr>
        <p:blipFill>
          <a:blip r:embed="rId1"/>
          <a:stretch/>
        </p:blipFill>
        <p:spPr>
          <a:xfrm>
            <a:off x="3348000" y="4869000"/>
            <a:ext cx="3311640" cy="18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71280" y="475920"/>
            <a:ext cx="446436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Понятия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49952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иск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- - вероятность причинения вреда жизни или здоровью граждан... с учетом тяжести этого вре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фессиональный риск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вероятность причинения вреда здоровью в результате воздействия вредных и (или) опасных производственных факторов при исполнении работником обязанностей по трудовому договору или в иных случаях, установленных Трудовым Кодексом РФ или другими федеральными зако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Оценка риска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- это процесс анализа рисков, вызванных воздействием опасностей на работе, для определения их влияния на безопасность и сохранение здоровья раб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правление профессиональными рисками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- комплекс взаимосвязанных мероприятий, включающих в себя меры по выявлению, оценке и снижению уровней профессиональных рис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%D0%A0%D0%B8%D1%81%D0%BA%D0%B8-%D0%B1%D0%B8%D0%B7%D0%BD%D0%B5%D1%81%D0%B0"/>
          <p:cNvPicPr/>
          <p:nvPr/>
        </p:nvPicPr>
        <p:blipFill>
          <a:blip r:embed="rId1"/>
          <a:stretch/>
        </p:blipFill>
        <p:spPr>
          <a:xfrm>
            <a:off x="0" y="0"/>
            <a:ext cx="235584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895320" y="225360"/>
            <a:ext cx="7924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ы косвенных методов оценки р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6"/>
          <p:cNvSpPr/>
          <p:nvPr/>
        </p:nvSpPr>
        <p:spPr>
          <a:xfrm>
            <a:off x="182520" y="1006560"/>
            <a:ext cx="86295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2060"/>
                </a:solidFill>
                <a:uFillTx/>
                <a:latin typeface="Arial"/>
              </a:rPr>
              <a:t>Метод интервь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2060"/>
                </a:solidFill>
                <a:latin typeface="Arial"/>
              </a:rPr>
              <a:t>Отдельным группам работников (например, работающим в одном цехе, отделе, либо обслуживающим оборудование) задают ряд уже подготовленных вопросов относительно возможных опасностей (рисков), с которыми работники сталкиваются в ходе выполнения своей трудовой функ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2060"/>
                </a:solidFill>
                <a:latin typeface="Arial"/>
              </a:rPr>
              <a:t>Целями использования метода являются как выявление опасностей, с которыми сталкиваются работники, так и вовлечение работников в процесс оценки и управления риск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2060"/>
                </a:solidFill>
                <a:latin typeface="Arial"/>
              </a:rPr>
              <a:t>Метод может применяться как в форме анкетирования, так и в форме так называемых «аудитов безопасного поведени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Рисунок 4" descr="http://d3lgc28rsiigal.cloudfront.net/wp-content/uploads/2014/07/polls.jpg?4814de"/>
          <p:cNvPicPr/>
          <p:nvPr/>
        </p:nvPicPr>
        <p:blipFill>
          <a:blip r:embed="rId1"/>
          <a:stretch/>
        </p:blipFill>
        <p:spPr>
          <a:xfrm>
            <a:off x="5840280" y="3122640"/>
            <a:ext cx="2878200" cy="297504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4"/>
          <p:cNvSpPr/>
          <p:nvPr/>
        </p:nvSpPr>
        <p:spPr>
          <a:xfrm>
            <a:off x="228600" y="3241800"/>
            <a:ext cx="5051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2060"/>
                </a:solidFill>
                <a:uFillTx/>
                <a:latin typeface="Arial"/>
              </a:rPr>
              <a:t>Метод контрольных листов («чек-листов»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Контрольный лист – это перечень опасностей и/или рисков, который формируется на основе данных производственного контроля, предыдущих оценок рисков. Организация, как правило, разрабатывает контрольные листы с учетом специфики своей деятельности, однако, имеются и типовые контрольные листы для определенных опасностей, профессий и видов рабо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Рисунок 6" descr="http://d3lgc28rsiigal.cloudfront.net/wp-content/uploads/2014/07/polls.jpg?4814de"/>
          <p:cNvPicPr/>
          <p:nvPr/>
        </p:nvPicPr>
        <p:blipFill>
          <a:blip r:embed="rId1"/>
          <a:stretch/>
        </p:blipFill>
        <p:spPr>
          <a:xfrm>
            <a:off x="7365960" y="2271600"/>
            <a:ext cx="1778040" cy="148932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4"/>
          <p:cNvSpPr/>
          <p:nvPr/>
        </p:nvSpPr>
        <p:spPr>
          <a:xfrm>
            <a:off x="324000" y="2565360"/>
            <a:ext cx="62150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e9ce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e9ce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роизводственный проце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e9ce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Машины и оборуд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e9ce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орядок и чистота на рабочем мес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e9ce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Факторы окружающей сре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e9ce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Эргоном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e9ce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роходы и проез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e9ce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Возможности для спасения и оказания первой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628560" y="220680"/>
            <a:ext cx="8101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 косвенного метода оценки р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Выноска со стрелкой вниз 8"/>
          <p:cNvSpPr/>
          <p:nvPr/>
        </p:nvSpPr>
        <p:spPr>
          <a:xfrm>
            <a:off x="960480" y="1019160"/>
            <a:ext cx="7029360" cy="1968480"/>
          </a:xfrm>
          <a:prstGeom prst="downArrowCallout">
            <a:avLst>
              <a:gd name="adj1" fmla="val 24999"/>
              <a:gd name="adj2" fmla="val 24997"/>
              <a:gd name="adj3" fmla="val 25000"/>
              <a:gd name="adj4" fmla="val 64977"/>
            </a:avLst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етод Элмери. Наблюдение за производственной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Рисунок 7" descr="http://avtomobilist-sbor.ru/wp-content/uploads/2014/07/%D1%87%D0%B5%D0%BB81.jpeg"/>
          <p:cNvPicPr/>
          <p:nvPr/>
        </p:nvPicPr>
        <p:blipFill>
          <a:blip r:embed="rId2"/>
          <a:stretch/>
        </p:blipFill>
        <p:spPr>
          <a:xfrm>
            <a:off x="6864480" y="4378320"/>
            <a:ext cx="1865160" cy="17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4"/>
          <p:cNvSpPr/>
          <p:nvPr/>
        </p:nvSpPr>
        <p:spPr>
          <a:xfrm>
            <a:off x="324000" y="944640"/>
            <a:ext cx="85690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e9c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Состояние объекта наблюдения (пункт) признается "хорошим" и ставится  «+»  в графу, если он отвечает минимальному уровню (по мнению наблюдателя) требований безопасности. Если состояние объекта не соответствует требованиям охраны труда, то ставится отметка "–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Если по какой-либо причине нет возможности оценить данный показатель или методом наблюдения его нельзя определить, то в соответствующей графе карты наблюдений указывается отметка "отсутствует" или "0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1104840" y="133200"/>
            <a:ext cx="71503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Карты наблю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92200" y="107172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aramond"/>
                <a:ea typeface="Arial"/>
              </a:rPr>
              <a:t>Характеризует уровень безопасности наблюдаемого участка (рабочего ме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131760" y="368784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Индекс обозначает процентное соотношение, значение которого может быть от 0 до 10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Например, результат 60 % показывает, что 60 пунктов из 100 соответствует требованиям охраны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165240" y="26337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ндекс Элмери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981600" y="234468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ункты «хорош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3203640" y="2849400"/>
            <a:ext cx="453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2666880" y="2921040"/>
            <a:ext cx="56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ункты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«хорошо» + пункты «плох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7739280" y="2627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Х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684360" y="115920"/>
            <a:ext cx="7812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Индекс Элмер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33"/>
          <p:cNvSpPr/>
          <p:nvPr/>
        </p:nvSpPr>
        <p:spPr>
          <a:xfrm>
            <a:off x="201600" y="2278800"/>
            <a:ext cx="587376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Подверженность от 0 = никогда до 10 = постоянная подверж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Вероятность от 0 = абсолютно невозможно до 10 = это случи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Последствия от 1 = минимальные (повреждение) до 100 = катастроф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R = 0 – 20 небольшой риск, возможно приемле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R = &gt; 400 очень высокий риск, немедленное прекращение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Выноска со стрелкой вниз 7"/>
          <p:cNvSpPr/>
          <p:nvPr/>
        </p:nvSpPr>
        <p:spPr>
          <a:xfrm>
            <a:off x="1655640" y="254160"/>
            <a:ext cx="4849920" cy="1431720"/>
          </a:xfrm>
          <a:prstGeom prst="downArrowCallout">
            <a:avLst>
              <a:gd name="adj1" fmla="val 25001"/>
              <a:gd name="adj2" fmla="val 24998"/>
              <a:gd name="adj3" fmla="val 25000"/>
              <a:gd name="adj4" fmla="val 64977"/>
            </a:avLst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етод Файн-Кин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http://ganetsinai.com/wp-content/uploads/2013/09/1.jpg"/>
          <p:cNvPicPr/>
          <p:nvPr/>
        </p:nvPicPr>
        <p:blipFill>
          <a:blip r:embed="rId1"/>
          <a:stretch/>
        </p:blipFill>
        <p:spPr>
          <a:xfrm>
            <a:off x="5826240" y="4124160"/>
            <a:ext cx="3227400" cy="200052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9"/>
          <p:cNvSpPr/>
          <p:nvPr/>
        </p:nvSpPr>
        <p:spPr>
          <a:xfrm>
            <a:off x="506520" y="1693800"/>
            <a:ext cx="84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 = Подверженность x Вероятность x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290520" y="193680"/>
          <a:ext cx="8564400" cy="5994360"/>
        </p:xfrm>
        <a:graphic>
          <a:graphicData uri="http://schemas.openxmlformats.org/drawingml/2006/table">
            <a:tbl>
              <a:tblPr/>
              <a:tblGrid>
                <a:gridCol w="812880"/>
                <a:gridCol w="2052720"/>
                <a:gridCol w="814320"/>
                <a:gridCol w="1952640"/>
                <a:gridCol w="1139760"/>
                <a:gridCol w="1792080"/>
              </a:tblGrid>
              <a:tr h="412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ЯЖЕ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Е ОПАС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тяжести последств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воздействия опасности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вероятности несчастного случ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рав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г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о невозмож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частные случаи с легким исходом с оформлением листа временной нетрудоспособ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реднем – 1 раз в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ти невозмож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частные случаи с тяжелым исходом с оформлением листа временной нетрудоспособности. Установление групп инвалид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реднем – 1 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ероят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ые несчастные случаи с тяжелым исходом. Смертельные случа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реднем – 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арактерно, но возмож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ель людей и материальных ценностей, разрушения оборудования зданий и сооруж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реднем – 1 раз за рабочую смен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озмож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резвычайная ситуация с большим числом жер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о в течение рабочей сме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ее всего произойд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182520" y="187200"/>
          <a:ext cx="8820360" cy="5950080"/>
        </p:xfrm>
        <a:graphic>
          <a:graphicData uri="http://schemas.openxmlformats.org/drawingml/2006/table">
            <a:tbl>
              <a:tblPr/>
              <a:tblGrid>
                <a:gridCol w="1758960"/>
                <a:gridCol w="2487600"/>
                <a:gridCol w="457380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рис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мость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 мероприятий по снижению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-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ый ри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ых мер не требуется. Следует контролировать уровень оп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ый ри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дует спланировать и выполнить мероприятия по снижению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-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тельный ри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 запланировать и выполнить мероприятия по снижению риска в сжатые с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- 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 ри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 принятие экстренных мер по снижению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рхвысокий  ри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 прекратить деятельность до устранения опасности или снижения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1" descr=""/>
          <p:cNvPicPr/>
          <p:nvPr/>
        </p:nvPicPr>
        <p:blipFill>
          <a:blip r:embed="rId1"/>
          <a:stretch/>
        </p:blipFill>
        <p:spPr>
          <a:xfrm>
            <a:off x="1106640" y="701640"/>
            <a:ext cx="7843680" cy="28544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2" descr=""/>
          <p:cNvPicPr/>
          <p:nvPr/>
        </p:nvPicPr>
        <p:blipFill>
          <a:blip r:embed="rId2"/>
          <a:stretch/>
        </p:blipFill>
        <p:spPr>
          <a:xfrm>
            <a:off x="1106640" y="3732120"/>
            <a:ext cx="78436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9"/>
          <p:cNvSpPr/>
          <p:nvPr/>
        </p:nvSpPr>
        <p:spPr>
          <a:xfrm>
            <a:off x="774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2692440" y="2271600"/>
            <a:ext cx="5232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Метод мозгового шту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кругленный прямоугольник 12"/>
          <p:cNvSpPr/>
          <p:nvPr/>
        </p:nvSpPr>
        <p:spPr>
          <a:xfrm>
            <a:off x="438120" y="3224160"/>
            <a:ext cx="8318520" cy="313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Метод мозгового штурма – вспомогательный ме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Способ получения набора идей и оценок, ранжируемых коман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  <a:ea typeface="Arial"/>
              </a:rPr>
              <a:t>Метод мозгового штурма представляет собой обсуждение проблемы группой специалистов в доброжелательной манере, целью которого является идентификация возможных видов отказов и соответствующих опасностей, риска, критериев принятия решений и/или способов обработки ри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Результатом могут быть перечни опасных событий и необходимых средств 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https://img3.stockfresh.com/files/i/iqoncept/m/57/1981443_stock-photo-connected-people-team-brainstorming-solution-to-problem.jpg"/>
          <p:cNvPicPr/>
          <p:nvPr/>
        </p:nvPicPr>
        <p:blipFill>
          <a:blip r:embed="rId1"/>
          <a:stretch/>
        </p:blipFill>
        <p:spPr>
          <a:xfrm>
            <a:off x="0" y="0"/>
            <a:ext cx="28814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http://www.orenwiki.ru/images/1/1a/Logo1.jpg"/>
          <p:cNvPicPr/>
          <p:nvPr/>
        </p:nvPicPr>
        <p:blipFill>
          <a:blip r:embed="rId1"/>
          <a:stretch/>
        </p:blipFill>
        <p:spPr>
          <a:xfrm>
            <a:off x="6529320" y="689040"/>
            <a:ext cx="2401920" cy="2114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https://img11.postila.ru/resize?w=&amp;src=http%3A%2F%2Fslavmmc.at.ua%2F_nw%2F20%2F12750703.jpg"/>
          <p:cNvPicPr/>
          <p:nvPr/>
        </p:nvPicPr>
        <p:blipFill>
          <a:blip r:embed="rId2"/>
          <a:stretch/>
        </p:blipFill>
        <p:spPr>
          <a:xfrm>
            <a:off x="0" y="4000680"/>
            <a:ext cx="2840040" cy="170316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9"/>
          <p:cNvSpPr/>
          <p:nvPr/>
        </p:nvSpPr>
        <p:spPr>
          <a:xfrm>
            <a:off x="774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141120" y="85680"/>
            <a:ext cx="8785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Метод мозгового шту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кругленный прямоугольник 12"/>
          <p:cNvSpPr/>
          <p:nvPr/>
        </p:nvSpPr>
        <p:spPr>
          <a:xfrm>
            <a:off x="141120" y="692280"/>
            <a:ext cx="6758280" cy="200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Преимущества: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развитие у участников нестандартного мыш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вовлечение в обсуждение ключевых причастных сторон и, следовательно, улучшение процесса обмена информ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быстрота и легкость применения мет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кругленный прямоугольник 9"/>
          <p:cNvSpPr/>
          <p:nvPr/>
        </p:nvSpPr>
        <p:spPr>
          <a:xfrm>
            <a:off x="2370240" y="3137040"/>
            <a:ext cx="6649920" cy="33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</a:t>
            </a:r>
            <a:r>
              <a:rPr b="1" i="1" lang="en-US" sz="1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Недостатки: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возможен недостаток навыков и знаний участников обсуждения для эффективного генерирования ид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так как метод прост и неструктурирован, то трудно проверить всесторонность обсуждения и подтвердить, что все опасности и виды риска идентифицирова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динамика обсуждения в группе может быть такой, при которой некоторые участники, располагающие ценными идеями, не проявляют себя, в то время как другие доминируют при обсужд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95280" y="115560"/>
            <a:ext cx="8424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004d"/>
                </a:solidFill>
                <a:latin typeface="Arial"/>
              </a:rPr>
              <a:t>Нормативное регу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004d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Трудовой  Кодекс Р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Федеральный закон от 28.12.2013 N 426-ФЗ «О специальной оценке условий труда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Приказ Минтруда России от 19.08.2016 N 438н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«Об утверждении Типового положения о системе управления охраной труда»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Приказ Минздравсоцразвития России от 01.03.2012 N 181н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«Об утверждении Типового перечня ежегодно реализуемых работодателем мероприятий по улучшению условий и охраны труда и снижению уровней профессиональных рисков»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«Р 2.2.1766-03. 2.2. Гигиена труда. Руководство по оценке профессионального риска для здоровья работников. Организационно-методические основы, принципы и критерии оценки. Руководство»</a:t>
            </a:r>
            <a:br>
              <a:rPr sz="1500"/>
            </a:b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ГОСТ 12.0.230.3-2016. «Межгосударственный стандарт. Система стандартов безопасности труда. Системы управления охраной труда. Оценка результативности и эффективности»</a:t>
            </a:r>
            <a:br>
              <a:rPr sz="1500"/>
            </a:b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ГОСТ 12.0.230.2-2015. «Межгосударственный стандарт. Система стандартов безопасности труда. Системы управления охраной труда. Оценка соответствия. Требования»</a:t>
            </a:r>
            <a:br>
              <a:rPr sz="1500"/>
            </a:b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ГОСТ 12.0.230.1-2015. «Межгосударственный стандарт. Система стандартов безопасности труда. Системы управления охраной труда. Руководство по применению ГОСТ 12.0.230-2007»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«ГОСТ 12.0.230-2007. Межгосударственный стандарт. Система стандартов безопасности труда. Системы управления охраной труда. Общие требован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0" y="260280"/>
            <a:ext cx="41832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Матричные методы оценки риска, основанные на балльной оценк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https://cf.ppt-online.org/files2/slide/f/fPktM9cwUEqGu46xpNIoCbO2Q8iAmeV5KFsL0d/slide-49.jpg"/>
          <p:cNvPicPr/>
          <p:nvPr/>
        </p:nvPicPr>
        <p:blipFill>
          <a:blip r:embed="rId1"/>
          <a:stretch/>
        </p:blipFill>
        <p:spPr>
          <a:xfrm>
            <a:off x="4572000" y="1440"/>
            <a:ext cx="4572000" cy="4213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ttps://cf.ppt-online.org/files2/slide/o/Oue06aTylU3dsNzFGMSwcQ2pIL1X9hxmDP7RKvokbE/slide-63.jpg"/>
          <p:cNvPicPr/>
          <p:nvPr/>
        </p:nvPicPr>
        <p:blipFill>
          <a:blip r:embed="rId2"/>
          <a:stretch/>
        </p:blipFill>
        <p:spPr>
          <a:xfrm>
            <a:off x="324000" y="3227400"/>
            <a:ext cx="363528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9"/>
          <p:cNvSpPr/>
          <p:nvPr/>
        </p:nvSpPr>
        <p:spPr>
          <a:xfrm>
            <a:off x="7740720" y="6491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141120" y="103320"/>
            <a:ext cx="878544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Прямой метод оценки р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кругленный прямоугольник 12"/>
          <p:cNvSpPr/>
          <p:nvPr/>
        </p:nvSpPr>
        <p:spPr>
          <a:xfrm>
            <a:off x="468360" y="1052640"/>
            <a:ext cx="8316720" cy="194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Риск </a:t>
            </a:r>
            <a:r>
              <a:rPr b="1" i="1" lang="en-US" sz="1800" spc="-1" strike="noStrike" u="sng">
                <a:solidFill>
                  <a:srgbClr val="002060"/>
                </a:solidFill>
                <a:uFillTx/>
                <a:latin typeface="Arial"/>
              </a:rPr>
              <a:t>R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 в общем случае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оличественно рассчитывают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суммированием произведений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возможных значений ущерба здоровью и жизни работника (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тяжести последствий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00206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результате несчастных случаев на производстве (микротравм, профессиональных заболеваний) на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вероятности наступления этих событий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Р</a:t>
            </a:r>
            <a:r>
              <a:rPr b="1" i="1" lang="en-US" sz="1800" spc="-1" strike="noStrike" baseline="-25000">
                <a:solidFill>
                  <a:srgbClr val="00206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по каждой выявленной опасности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(опасному или вредному производственному фактор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кругленный прямоугольник 13"/>
          <p:cNvSpPr/>
          <p:nvPr/>
        </p:nvSpPr>
        <p:spPr>
          <a:xfrm>
            <a:off x="2411280" y="3141720"/>
            <a:ext cx="38610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кругленный прямоугольник 14"/>
          <p:cNvSpPr/>
          <p:nvPr/>
        </p:nvSpPr>
        <p:spPr>
          <a:xfrm>
            <a:off x="755640" y="4292640"/>
            <a:ext cx="7813800" cy="80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где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– общее число опасностей, в результате воздействия которых может наступить несчастный случай (микротравма, профессиональное заболева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Скругленный прямоугольник 8"/>
          <p:cNvSpPr/>
          <p:nvPr/>
        </p:nvSpPr>
        <p:spPr>
          <a:xfrm>
            <a:off x="141120" y="5292720"/>
            <a:ext cx="8886960" cy="93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2060"/>
                </a:solidFill>
                <a:latin typeface="Arial"/>
              </a:rPr>
              <a:t>Количественное оценивание риска, проводимое по такой формуле,  в реальных условиях производства затруднено. Только в очень ограниченном числе ситуаций, например, в случаях </a:t>
            </a:r>
            <a:r>
              <a:rPr b="0" lang="en-US" sz="1300" spc="-1" strike="noStrike" u="sng">
                <a:solidFill>
                  <a:srgbClr val="002060"/>
                </a:solidFill>
                <a:uFillTx/>
                <a:latin typeface="Arial"/>
              </a:rPr>
              <a:t>многолетнего контроля </a:t>
            </a:r>
            <a:r>
              <a:rPr b="0" lang="en-US" sz="1300" spc="-1" strike="noStrike">
                <a:solidFill>
                  <a:srgbClr val="002060"/>
                </a:solidFill>
                <a:latin typeface="Arial"/>
              </a:rPr>
              <a:t>за состоянием условий труда на рабочих местах, возможно с </a:t>
            </a:r>
            <a:r>
              <a:rPr b="0" lang="en-US" sz="1300" spc="-1" strike="noStrike" u="sng">
                <a:solidFill>
                  <a:srgbClr val="002060"/>
                </a:solidFill>
                <a:uFillTx/>
                <a:latin typeface="Arial"/>
              </a:rPr>
              <a:t>высокой степенью достоверности </a:t>
            </a:r>
            <a:r>
              <a:rPr b="0" lang="en-US" sz="1300" spc="-1" strike="noStrike">
                <a:solidFill>
                  <a:srgbClr val="002060"/>
                </a:solidFill>
                <a:latin typeface="Arial"/>
              </a:rPr>
              <a:t>говорить о </a:t>
            </a:r>
            <a:r>
              <a:rPr b="0" lang="en-US" sz="1300" spc="-1" strike="noStrike" u="sng">
                <a:solidFill>
                  <a:srgbClr val="002060"/>
                </a:solidFill>
                <a:uFillTx/>
                <a:latin typeface="Arial"/>
              </a:rPr>
              <a:t>значениях вероятности </a:t>
            </a:r>
            <a:r>
              <a:rPr b="0" lang="en-US" sz="1300" spc="-1" strike="noStrike">
                <a:solidFill>
                  <a:srgbClr val="002060"/>
                </a:solidFill>
                <a:latin typeface="Arial"/>
              </a:rPr>
              <a:t>наступления несчастных случаев и </a:t>
            </a:r>
            <a:r>
              <a:rPr b="0" lang="en-US" sz="1300" spc="-1" strike="noStrike" u="sng">
                <a:solidFill>
                  <a:srgbClr val="002060"/>
                </a:solidFill>
                <a:uFillTx/>
                <a:latin typeface="Arial"/>
              </a:rPr>
              <a:t>зафиксированной тяжести </a:t>
            </a:r>
            <a:r>
              <a:rPr b="0" lang="en-US" sz="1300" spc="-1" strike="noStrike">
                <a:solidFill>
                  <a:srgbClr val="002060"/>
                </a:solidFill>
                <a:latin typeface="Arial"/>
              </a:rPr>
              <a:t>их последствий для здоровья работни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Object 2" descr=""/>
          <p:cNvPicPr/>
          <p:nvPr/>
        </p:nvPicPr>
        <p:blipFill>
          <a:blip r:embed="rId1"/>
          <a:stretch/>
        </p:blipFill>
        <p:spPr>
          <a:xfrm>
            <a:off x="2411280" y="3141720"/>
            <a:ext cx="3324240" cy="100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5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69850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1" lang="ru-RU" sz="3900" spc="-1" strike="noStrike">
                <a:solidFill>
                  <a:srgbClr val="ffff00"/>
                </a:solidFill>
                <a:latin typeface="Arial"/>
              </a:rPr>
              <a:t>ИСК И ОПАС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828720" y="1413000"/>
            <a:ext cx="1800360" cy="703800"/>
          </a:xfrm>
          <a:prstGeom prst="rect">
            <a:avLst/>
          </a:prstGeom>
          <a:solidFill>
            <a:srgbClr val="f3f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Tahoma"/>
                <a:ea typeface="Arial"/>
              </a:rPr>
              <a:t>Опасная ситу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4"/>
          <p:cNvSpPr/>
          <p:nvPr/>
        </p:nvSpPr>
        <p:spPr>
          <a:xfrm>
            <a:off x="4933800" y="1413000"/>
            <a:ext cx="1978200" cy="720720"/>
          </a:xfrm>
          <a:prstGeom prst="rect">
            <a:avLst/>
          </a:prstGeom>
          <a:solidFill>
            <a:srgbClr val="f3f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Tahoma"/>
                <a:ea typeface="Arial"/>
              </a:rPr>
              <a:t>Происше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5"/>
          <p:cNvSpPr/>
          <p:nvPr/>
        </p:nvSpPr>
        <p:spPr>
          <a:xfrm>
            <a:off x="7064280" y="1413000"/>
            <a:ext cx="1936800" cy="720720"/>
          </a:xfrm>
          <a:prstGeom prst="rect">
            <a:avLst/>
          </a:prstGeom>
          <a:solidFill>
            <a:srgbClr val="f3f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Tahoma"/>
                <a:ea typeface="Arial"/>
              </a:rPr>
              <a:t>Тяж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Tahoma"/>
                <a:ea typeface="Arial"/>
              </a:rPr>
              <a:t> </a:t>
            </a:r>
            <a:r>
              <a:rPr b="1" lang="en-US" sz="2000" spc="-1" strike="noStrike">
                <a:solidFill>
                  <a:srgbClr val="669999"/>
                </a:solidFill>
                <a:latin typeface="Tahoma"/>
                <a:ea typeface="Arial"/>
              </a:rPr>
              <a:t>посл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6"/>
          <p:cNvSpPr/>
          <p:nvPr/>
        </p:nvSpPr>
        <p:spPr>
          <a:xfrm>
            <a:off x="2620800" y="1717560"/>
            <a:ext cx="223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7"/>
          <p:cNvSpPr/>
          <p:nvPr/>
        </p:nvSpPr>
        <p:spPr>
          <a:xfrm>
            <a:off x="4710240" y="1717560"/>
            <a:ext cx="22356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8"/>
          <p:cNvSpPr/>
          <p:nvPr/>
        </p:nvSpPr>
        <p:spPr>
          <a:xfrm>
            <a:off x="6912000" y="1717560"/>
            <a:ext cx="1522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9"/>
          <p:cNvSpPr/>
          <p:nvPr/>
        </p:nvSpPr>
        <p:spPr>
          <a:xfrm flipV="1">
            <a:off x="2052720" y="2349000"/>
            <a:ext cx="0" cy="358164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0"/>
          <p:cNvSpPr/>
          <p:nvPr/>
        </p:nvSpPr>
        <p:spPr>
          <a:xfrm>
            <a:off x="2052720" y="5950080"/>
            <a:ext cx="468000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rc 21"/>
          <p:cNvSpPr/>
          <p:nvPr/>
        </p:nvSpPr>
        <p:spPr>
          <a:xfrm flipH="1" flipV="1">
            <a:off x="2484360" y="3141000"/>
            <a:ext cx="3733920" cy="2438280"/>
          </a:xfrm>
          <a:custGeom>
            <a:avLst/>
            <a:gdLst>
              <a:gd name="textAreaLeft" fmla="*/ 360 w 3733920"/>
              <a:gd name="textAreaRight" fmla="*/ 3734640 w 3733920"/>
              <a:gd name="textAreaTop" fmla="*/ -360 h 2438280"/>
              <a:gd name="textAreaBottom" fmla="*/ 2438280 h 2438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22"/>
          <p:cNvSpPr/>
          <p:nvPr/>
        </p:nvSpPr>
        <p:spPr>
          <a:xfrm>
            <a:off x="2916360" y="4365720"/>
            <a:ext cx="880920" cy="71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Arial"/>
              </a:rPr>
              <a:t>Ри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3"/>
          <p:cNvSpPr/>
          <p:nvPr/>
        </p:nvSpPr>
        <p:spPr>
          <a:xfrm>
            <a:off x="3780000" y="37893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ahoma"/>
                <a:ea typeface="Arial"/>
              </a:rPr>
              <a:t>Высо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4078440" y="5346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  <a:ea typeface="Arial"/>
              </a:rPr>
              <a:t>Низ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0" y="220500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Tahoma"/>
                <a:ea typeface="Arial"/>
              </a:rPr>
              <a:t>Вероя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6"/>
          <p:cNvSpPr/>
          <p:nvPr/>
        </p:nvSpPr>
        <p:spPr>
          <a:xfrm>
            <a:off x="5724360" y="6021360"/>
            <a:ext cx="29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Tahoma"/>
                <a:ea typeface="Arial"/>
              </a:rPr>
              <a:t>Тяжесть посл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Object 2" descr=""/>
          <p:cNvPicPr/>
          <p:nvPr/>
        </p:nvPicPr>
        <p:blipFill>
          <a:blip r:embed="rId2"/>
          <a:stretch/>
        </p:blipFill>
        <p:spPr>
          <a:xfrm>
            <a:off x="108000" y="1557360"/>
            <a:ext cx="106992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04" name="Rectangle 13"/>
          <p:cNvSpPr/>
          <p:nvPr/>
        </p:nvSpPr>
        <p:spPr>
          <a:xfrm>
            <a:off x="2773440" y="1413000"/>
            <a:ext cx="1981080" cy="720720"/>
          </a:xfrm>
          <a:prstGeom prst="rect">
            <a:avLst/>
          </a:prstGeom>
          <a:solidFill>
            <a:srgbClr val="f3f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Tahoma"/>
                <a:ea typeface="Arial"/>
              </a:rPr>
              <a:t>Вероя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4444E-006 C 0.00972 -0.00439 0.01563 -0.0162 0.02222 -0.02592 C 0.02656 -0.0324 0.03247 -0.03726 0.03611 -0.04444 C 0.03802 -0.04814 0.03976 -0.05185 0.04167 -0.05555 C 0.04514 -0.0625 0.05208 -0.06527 0.05556 -0.07222 C 0.05642 -0.07407 0.05712 -0.07639 0.05833 -0.07777 C 0.06493 -0.08564 0.07344 -0.08958 0.08056 -0.09629 C 0.08628 -0.10185 0.08854 -0.10671 0.09583 -0.10926 C 0.10017 -0.11504 0.10382 -0.11782 0.10972 -0.12037 C 0.12326 -0.13402 0.14132 -0.14884 0.15833 -0.1537 C 0.1651 -0.15555 0.19201 -0.15717 0.19444 -0.1574 C 0.21337 -0.15671 0.23247 -0.15671 0.25139 -0.15555 C 0.26024 -0.15486 0.27778 -0.15185 0.27778 -0.15185 C 0.29913 -0.14467 0.3224 -0.14467 0.34444 -0.14259 C 0.35851 -0.13796 0.33854 -0.14421 0.3625 -0.13889 C 0.36892 -0.1375 0.37326 -0.13055 0.37917 -0.12777 C 0.38177 -0.12639 0.38472 -0.12662 0.3875 -0.12592 C 0.38976 -0.12476 0.39201 -0.12314 0.39444 -0.12222 C 0.39722 -0.12129 0.40017 -0.12176 0.40278 -0.12037 C 0.40538 -0.11921 0.40712 -0.11597 0.40972 -0.11481 C 0.42083 -0.10949 0.43663 -0.10764 0.44861 -0.1037 C 0.45642 -0.10115 0.46441 -0.09629 0.47222 -0.09444 C 0.48194 -0.09213 0.49167 -0.09213 0.50139 -0.08889 C 0.50972 -0.08611 0.51736 -0.08055 0.525 -0.07592 C 0.53212 -0.07176 0.54028 -0.0699 0.54722 -0.06481 C 0.55017 -0.06273 0.55278 -0.05995 0.55556 -0.0574 C 0.55799 -0.05532 0.56146 -0.05578 0.56389 -0.0537 C 0.57344 -0.04514 0.5691 -0.04768 0.57639 -0.04444 C 0.58125 -0.03796 0.57882 -0.04004 0.58333 -0.03703 E">
                                      <p:cBhvr>
                                        <p:cTn id="25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e9ce8"/>
                                      </p:to>
                                    </p:animClr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e9ce8"/>
                                      </p:to>
                                    </p:animClr>
                                    <p:set>
                                      <p:cBhvr>
                                        <p:cTn id="3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97 -0.02709 C -0.04167 -0.02871 -0.04236 -0.0301 -0.04323 -0.03172 C -0.04462 -0.0331 -0.04636 -0.03426 -0.04722 -0.03611 C -0.05104 -0.04398 -0.0441 -0.03935 -0.05191 -0.04491 C -0.05434 -0.04653 -0.05972 -0.04908 -0.05972 -0.04885 C -0.06181 -0.05232 -0.06493 -0.05463 -0.06667 -0.05834 C -0.06771 -0.05973 -0.06736 -0.06158 -0.06771 -0.0632 C -0.06997 -0.06922 -0.06962 -0.06829 -0.07413 -0.07223 C -0.07778 -0.08056 -0.08056 -0.08959 -0.0842 -0.09838 C -0.08611 -0.10209 -0.09202 -0.10602 -0.09202 -0.10579 C -0.09705 -0.11783 -0.09861 -0.12917 -0.10174 -0.14236 C -0.10209 -0.14422 -0.10452 -0.14468 -0.10556 -0.14584 C -0.10868 -0.15023 -0.1092 -0.15139 -0.11146 -0.15648 C -0.11302 -0.1669 -0.11493 -0.17685 -0.11632 -0.18727 C -0.1165 -0.18959 -0.11684 -0.19098 -0.11736 -0.19398 C -0.11806 -0.19723 -0.11893 -0.20394 -0.1191 -0.20371 C -0.11945 -0.22454 -0.12361 -0.24352 -0.125 -0.26343 C -0.12518 -0.24977 -0.12604 -0.23681 -0.12413 -0.22315 C -0.12292 -0.20648 -0.1191 -0.19028 -0.1158 -0.17361 C -0.11233 -0.15579 -0.10886 -0.13866 -0.10174 -0.12199 C -0.1007 -0.1206 -0.10104 -0.11852 -0.10035 -0.11713 C -0.09792 -0.10903 -0.09323 -0.09699 -0.08872 -0.09051 C -0.08663 -0.0794 -0.08056 -0.06783 -0.07188 -0.0632 C -0.07084 -0.06204 -0.06979 -0.05996 -0.06823 -0.05834 C -0.06615 -0.05556 -0.06094 -0.05093 -0.06094 -0.0507 C -0.05938 -0.04306 -0.0566 -0.03588 -0.05278 -0.02986 C -0.0507 -0.01875 -0.054 -0.02986 -0.04809 -0.02269 C -0.0467 -0.0213 -0.0467 -0.01875 -0.04566 -0.0176 C -0.03542 -0.00417 -0.0415 -0.01366 -0.03403 -0.00787 C -0.02656 -0.00209 -0.01962 0.00578 -0.01163 0.01111 C -0.00799 0.01365 -0.0033 0.01412 2.5E-006 0.01736 C 0.00607 0.02338 0.01319 0.02893 0.02066 0.03287 C 0.02534 0.04027 0.0309 0.04074 0.03802 0.0449 C 0.04757 0.05069 0.05659 0.05602 0.06614 0.06111 C 0.08298 0.06944 0.09965 0.07754 0.11614 0.08657 C 0.12031 0.08865 0.125 0.08842 0.12916 0.09027 C 0.1335 0.09097 0.14236 0.0949 0.14618 0.09606 C 0.15034 0.09768 0.15469 0.09815 0.1592 0.09907 C 0.16823 0.10162 0.17899 0.10578 0.1875 0.11065 C 0.19462 0.11875 0.19861 0.13171 0.20659 0.13588 C 0.21007 0.13796 0.21094 0.12986 0.21302 0.12685 C 0.21528 0.12361 0.2184 0.12037 0.22153 0.12106 C 0.23854 0.12222 0.25555 0.12338 0.27274 0.12477 C 0.27934 0.12477 0.28541 0.12662 0.29253 0.12523 C 0.29462 0.12477 0.28906 0.12176 0.28767 0.12129 C 0.28507 0.12014 0.28264 0.11944 0.28107 0.11875 C 0.271 0.1199 0.26232 0.12083 0.25191 0.12106 C 0.22916 0.11782 0.20625 0.11551 0.1835 0.11203 C 0.16545 0.10926 0.14722 0.09745 0.12899 0.09305 C 0.11597 0.08588 0.10017 0.08356 0.08611 0.08009 C 0.08055 0.07777 0.07639 0.07315 0.07083 0.07014 C 0.0592 0.05277 0.07413 0.07315 0.06371 0.06273 C 0.06215 0.06111 0.06146 0.05856 0.05972 0.05717 C 0.05208 0.05023 0.04062 0.04815 0.03142 0.04583 C 0.03003 0.0449 0.02882 0.04467 0.02743 0.04375 C 0.02604 0.04236 0.02517 0.04097 0.02396 0.03958 C 0.01788 0.03611 0.01389 0.03495 0.0085 0.02963 C 0.00521 0.02315 0.00034 0.0206 -0.00538 0.01527 C -0.00643 0.01365 -0.00781 0.01273 -0.00886 0.01134 C -0.01025 0.01018 -0.01268 0.00787 -0.01268 0.00787 C -0.01927 -0.00741 -0.01042 0.01065 -0.01893 0.00046 C -0.01997 -0.00093 -0.02031 -0.00348 -0.02101 -0.00486 C -0.02518 -0.01019 -0.03073 -0.01505 -0.03646 -0.01852 C -0.0375 -0.01991 -0.03872 -0.02199 -0.03993 -0.02361 C -0.04236 -0.02616 -0.04757 -0.03102 -0.04757 -0.03079 C -0.04913 -0.03959 -0.05729 -0.04838 -0.06198 -0.05463 C -0.06875 -0.06297 -0.07656 -0.07223 -0.0842 -0.0801 C -0.08837 -0.08889 -0.09202 -0.09769 -0.09601 -0.10648 C -0.0967 -0.10741 -0.09618 -0.11019 -0.09705 -0.11158 C -0.09792 -0.11343 -0.09931 -0.11412 -0.10052 -0.11528 C -0.10243 -0.12385 -0.10104 -0.11898 -0.10643 -0.13102 C -0.10799 -0.13565 -0.1092 -0.14514 -0.11059 -0.15162 C -0.11129 -0.15533 -0.11441 -0.15764 -0.11511 -0.16158 C -0.11771 -0.17361 -0.11597 -0.16922 -0.11945 -0.17755 C -0.12014 -0.19283 -0.12101 -0.21389 -0.12691 -0.22778 C -0.12726 -0.23635 -0.129 -0.24422 -0.12969 -0.25232 C -0.12969 -0.25463 -0.13125 -0.26135 -0.13073 -0.25903 C -0.12952 -0.25579 -0.12813 -0.24838 -0.12795 -0.24838 C -0.12813 -0.23102 -0.12726 -0.21482 -0.12344 -0.19792 C -0.12292 -0.19422 -0.11962 -0.19098 -0.1191 -0.1875 C -0.11771 -0.18102 -0.11511 -0.17616 -0.11354 -0.17014 C -0.10972 -0.15695 -0.1066 -0.1456 -0.10104 -0.1338 C -0.09722 -0.125 -0.09549 -0.11528 -0.0908 -0.10741 C -0.08802 -0.09584 -0.08368 -0.08681 -0.07934 -0.07639 C -0.07639 -0.06991 -0.07483 -0.0632 -0.07101 -0.05695 C -0.06979 -0.05486 -0.06684 -0.05348 -0.06615 -0.05139 C -0.06476 -0.04908 -0.06424 -0.0463 -0.06163 -0.04422 C -0.06094 -0.0426 -0.05886 -0.04236 -0.05764 -0.04051 C -0.05 -0.03079 -0.04618 -0.01482 -0.03698 -0.00996 C -0.03281 -0.000699999999999999 -0.0257 0.00162 -0.01927 0.00717 C -0.01667 0.00926 -0.01441 0.01203 -0.01146 0.01458 C -0.00764 0.01875 -0.00781 0.01435 -0.00816 0.01828 E">
                                      <p:cBhvr>
                                        <p:cTn id="63" dur="10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7"/>
          <p:cNvSpPr/>
          <p:nvPr/>
        </p:nvSpPr>
        <p:spPr>
          <a:xfrm>
            <a:off x="900000" y="-71640"/>
            <a:ext cx="7272360" cy="10263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20"/>
                </a:solidFill>
                <a:latin typeface="Arial"/>
              </a:rPr>
              <a:t>Факторы, влияющие на вероятность собы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39960" y="1268280"/>
            <a:ext cx="75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частота проявления вредного во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-29880" y="2205000"/>
            <a:ext cx="75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продолжительность вредного во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34920" y="3419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возможность предвидеть заранее появление вредного во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40680" y="4859280"/>
            <a:ext cx="668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возможность предотвратить вредное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воз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5" descr="j0234131"/>
          <p:cNvPicPr/>
          <p:nvPr/>
        </p:nvPicPr>
        <p:blipFill>
          <a:blip r:embed="rId2"/>
          <a:stretch/>
        </p:blipFill>
        <p:spPr>
          <a:xfrm>
            <a:off x="7812000" y="2205000"/>
            <a:ext cx="1112760" cy="1184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MCBD06712_0000[1]"/>
          <p:cNvPicPr/>
          <p:nvPr/>
        </p:nvPicPr>
        <p:blipFill>
          <a:blip r:embed="rId3"/>
          <a:stretch/>
        </p:blipFill>
        <p:spPr>
          <a:xfrm>
            <a:off x="6299280" y="3262320"/>
            <a:ext cx="1512720" cy="1246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8" descr="MCj04339170000[1]"/>
          <p:cNvPicPr/>
          <p:nvPr/>
        </p:nvPicPr>
        <p:blipFill>
          <a:blip r:embed="rId4"/>
          <a:stretch/>
        </p:blipFill>
        <p:spPr>
          <a:xfrm>
            <a:off x="7380360" y="472428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9" descr="MCj04041330000[1]"/>
          <p:cNvPicPr/>
          <p:nvPr/>
        </p:nvPicPr>
        <p:blipFill>
          <a:blip r:embed="rId5"/>
          <a:stretch/>
        </p:blipFill>
        <p:spPr>
          <a:xfrm>
            <a:off x="7885080" y="1052640"/>
            <a:ext cx="86220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5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7"/>
          <p:cNvSpPr/>
          <p:nvPr/>
        </p:nvSpPr>
        <p:spPr>
          <a:xfrm>
            <a:off x="900000" y="146880"/>
            <a:ext cx="7632720" cy="58752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20"/>
                </a:solidFill>
                <a:latin typeface="Arial"/>
              </a:rPr>
              <a:t>Признаки вероятности собы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57200" y="1197000"/>
          <a:ext cx="8229600" cy="4822920"/>
        </p:xfrm>
        <a:graphic>
          <a:graphicData uri="http://schemas.openxmlformats.org/drawingml/2006/table">
            <a:tbl>
              <a:tblPr/>
              <a:tblGrid>
                <a:gridCol w="2844720"/>
                <a:gridCol w="538488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 </a:t>
                      </a: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ловероя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бытие, которое возникает редко и нерегуляр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апример, поверхность тротуаров зимой становится скользкой ото ль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 Вероятно</a:t>
                      </a: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Событие, которое возникает время от времени, но нерегуля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Например, во время техобслуживания подъемника груз нужно поднимать вручну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Высокая вероя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обытие, которое возникает часто и регулярн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пример, регулярное движение погрузчика вызывает опасность столкнов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5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85052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Arial"/>
              </a:rPr>
              <a:t>Факторы, влияющие на серьезность последствий 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Характер причиненного вред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Широта последств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вторяемость вредного воз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Продолжительность вредного воз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5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7"/>
          <p:cNvSpPr/>
          <p:nvPr/>
        </p:nvSpPr>
        <p:spPr>
          <a:xfrm>
            <a:off x="900000" y="146880"/>
            <a:ext cx="7632720" cy="58752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20"/>
                </a:solidFill>
                <a:latin typeface="Arial"/>
              </a:rPr>
              <a:t>Признаки тяжести послед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24000" y="1152360"/>
          <a:ext cx="8604000" cy="4664160"/>
        </p:xfrm>
        <a:graphic>
          <a:graphicData uri="http://schemas.openxmlformats.org/drawingml/2006/table">
            <a:tbl>
              <a:tblPr/>
              <a:tblGrid>
                <a:gridCol w="2592360"/>
                <a:gridCol w="60116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ебольшие</a:t>
                      </a: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бытие вызывает кратковременное заболевание или нарушение здоровья, которые не предполагают обращение за медицинской помощью. Возможно отсутствие на работе не более трех дне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апример, головная боль или синя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 Умеренно значи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Событие вызывает значительные и длительные последствия. Предполагает обращение за медицинской помощью. Вызывает от 3 до 30 дней отсутствия на рабо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Например, резаная рана или слабые ожог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Серьезные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Событие вызывает постоянные и необратимые повреждения. Предполагает стационарное лечение и вызывает отсутствие на работе более 30 дне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Например, серьезные профессиональные заболевания, стойкая нетрудоспособность или смер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5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7"/>
          <p:cNvSpPr/>
          <p:nvPr/>
        </p:nvSpPr>
        <p:spPr>
          <a:xfrm>
            <a:off x="971640" y="92880"/>
            <a:ext cx="7345440" cy="6969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20"/>
                </a:solidFill>
                <a:latin typeface="Arial"/>
              </a:rPr>
              <a:t>Матрица оценки р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395280" y="927000"/>
          <a:ext cx="8499600" cy="5813640"/>
        </p:xfrm>
        <a:graphic>
          <a:graphicData uri="http://schemas.openxmlformats.org/drawingml/2006/table">
            <a:tbl>
              <a:tblPr/>
              <a:tblGrid>
                <a:gridCol w="1792440"/>
                <a:gridCol w="1339560"/>
                <a:gridCol w="1343160"/>
                <a:gridCol w="1341360"/>
                <a:gridCol w="1341360"/>
                <a:gridCol w="1341720"/>
              </a:tblGrid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ТЯЖЕ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ВЕРОЯ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Незначи-тельная</a:t>
                      </a:r>
                      <a:r>
                        <a:rPr b="0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Невысокая</a:t>
                      </a:r>
                      <a:r>
                        <a:rPr b="0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Умеренная</a:t>
                      </a:r>
                      <a:r>
                        <a:rPr b="0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Значитель-ная</a:t>
                      </a:r>
                      <a:r>
                        <a:rPr b="0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Катастро-фическая</a:t>
                      </a:r>
                      <a:r>
                        <a:rPr b="0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Практически нереальное событие</a:t>
                      </a: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 </a:t>
                      </a:r>
                      <a:br>
                        <a:rPr sz="1800"/>
                      </a:b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Очень низкий</a:t>
                      </a:r>
                      <a:br>
                        <a:rPr sz="1800"/>
                      </a:b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Очень низкий</a:t>
                      </a: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 </a:t>
                      </a:r>
                      <a:br>
                        <a:rPr sz="1800"/>
                      </a:b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699d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Средний</a:t>
                      </a:r>
                      <a:br>
                        <a:rPr sz="1800"/>
                      </a:b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Сре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5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Маловероятно</a:t>
                      </a:r>
                      <a:br>
                        <a:rPr sz="1800"/>
                      </a:b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Очень низкий</a:t>
                      </a: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 </a:t>
                      </a:r>
                      <a:br>
                        <a:rPr sz="1800"/>
                      </a:b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Низкий</a:t>
                      </a: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699d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Средний</a:t>
                      </a:r>
                      <a:br>
                        <a:rPr sz="1800"/>
                      </a:b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Средний</a:t>
                      </a:r>
                      <a:br>
                        <a:rPr sz="1800"/>
                      </a:b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Высокий</a:t>
                      </a: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 </a:t>
                      </a:r>
                      <a:br>
                        <a:rPr sz="1800"/>
                      </a:b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5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Возможно</a:t>
                      </a:r>
                      <a:br>
                        <a:rPr sz="1800"/>
                      </a:b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Низкий</a:t>
                      </a: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699d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Сре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Средний</a:t>
                      </a:r>
                      <a:br>
                        <a:rPr sz="1800"/>
                      </a:b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Высокий</a:t>
                      </a: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 </a:t>
                      </a:r>
                      <a:br>
                        <a:rPr sz="1800"/>
                      </a:b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Очень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dc5900"/>
                    </a:solidFill>
                  </a:tcPr>
                </a:tc>
              </a:tr>
              <a:tr h="95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Вероятно</a:t>
                      </a: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 </a:t>
                      </a:r>
                      <a:br>
                        <a:rPr sz="1800"/>
                      </a:b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Сре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Средний</a:t>
                      </a:r>
                      <a:br>
                        <a:rPr sz="1800"/>
                      </a:b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Высокий</a:t>
                      </a: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 </a:t>
                      </a:r>
                      <a:br>
                        <a:rPr sz="1800"/>
                      </a:b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Очень высокий</a:t>
                      </a: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 </a:t>
                      </a:r>
                      <a:br>
                        <a:rPr sz="1800"/>
                      </a:b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dc5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Очень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dc5900"/>
                    </a:solidFill>
                  </a:tcPr>
                </a:tc>
              </a:tr>
              <a:tr h="95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Практически неизбеж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Средний</a:t>
                      </a:r>
                      <a:br>
                        <a:rPr sz="1800"/>
                      </a:b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Высокий</a:t>
                      </a:r>
                      <a:br>
                        <a:rPr sz="1800"/>
                      </a:b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Очень высокий</a:t>
                      </a:r>
                      <a:br>
                        <a:rPr sz="1800"/>
                      </a:b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dc5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Очень высокий</a:t>
                      </a: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dc5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Очень высокий</a:t>
                      </a:r>
                      <a:r>
                        <a:rPr b="1" lang="it-IT" sz="1800" spc="-1" strike="noStrike">
                          <a:solidFill>
                            <a:srgbClr val="080808"/>
                          </a:solidFill>
                          <a:latin typeface="Arial Narrow"/>
                        </a:rPr>
                        <a:t>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solidFill>
                      <a:srgbClr val="dc5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5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7"/>
          <p:cNvSpPr/>
          <p:nvPr/>
        </p:nvSpPr>
        <p:spPr>
          <a:xfrm>
            <a:off x="1116000" y="-44280"/>
            <a:ext cx="6985080" cy="9716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Необходимость проведения мероприятий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Object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1066680"/>
            <a:ext cx="813744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5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7"/>
          <p:cNvSpPr/>
          <p:nvPr/>
        </p:nvSpPr>
        <p:spPr>
          <a:xfrm>
            <a:off x="1116000" y="-44280"/>
            <a:ext cx="6985080" cy="9716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Необходимость проведения мероприятий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Object 2" descr=""/>
          <p:cNvPicPr/>
          <p:nvPr/>
        </p:nvPicPr>
        <p:blipFill>
          <a:blip r:embed="rId2"/>
          <a:stretch/>
        </p:blipFill>
        <p:spPr>
          <a:xfrm>
            <a:off x="496800" y="1057320"/>
            <a:ext cx="83869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610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004d"/>
                </a:solidFill>
                <a:latin typeface="Arial"/>
              </a:rPr>
              <a:t>Обязанность или рекомендованная процедура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08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2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4620"/>
                </a:solidFill>
                <a:latin typeface="Arial"/>
              </a:rPr>
              <a:t>Чек-лист № 31 «Наличие у работодателя наличие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20"/>
                </a:solidFill>
                <a:latin typeface="Arial"/>
              </a:rPr>
              <a:t>управления охраной труда (СУОТ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личие у работодателя Положения о системе управления охраной труда, утвержденного приказ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личие у работодателя Политики в области охраны тру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004d"/>
                </a:solidFill>
                <a:latin typeface="Arial"/>
              </a:rPr>
              <a:t>Приказ Минтруда России от 19.08.2016 N 438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004d"/>
                </a:solidFill>
                <a:latin typeface="Arial"/>
              </a:rPr>
              <a:t>"Об утверждении Типового по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004d"/>
                </a:solidFill>
                <a:latin typeface="Arial"/>
              </a:rPr>
              <a:t>о системе управления охраной труда»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ункты, регламентирующие процедуру оценки рис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личие у работодателя документированной процедуры управления профессиональными рисками (пункт 3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личие перечня идентифицированных опасностей, представляющих угрозу жизни и здоровью работников (пункт 3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личие в процедуре описания метода (методов) оценки уровня профессиональных рисков, связанных с идентифицированными опасностями (пункт 37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личие у работодателя перечня мер по исключению или снижению уровней профессиональных рисков (пункт 3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3" descr="risk-factors-clip-art-hd-wallpapers-79506"/>
          <p:cNvPicPr/>
          <p:nvPr/>
        </p:nvPicPr>
        <p:blipFill>
          <a:blip r:embed="rId1"/>
          <a:stretch/>
        </p:blipFill>
        <p:spPr>
          <a:xfrm>
            <a:off x="7164360" y="1773360"/>
            <a:ext cx="197964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5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7"/>
          <p:cNvSpPr/>
          <p:nvPr/>
        </p:nvSpPr>
        <p:spPr>
          <a:xfrm>
            <a:off x="900000" y="-99000"/>
            <a:ext cx="7632720" cy="10810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20"/>
                </a:solidFill>
                <a:latin typeface="Arial"/>
              </a:rPr>
              <a:t>Анкета оценки рисков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1" descr="ra"/>
          <p:cNvPicPr/>
          <p:nvPr/>
        </p:nvPicPr>
        <p:blipFill>
          <a:blip r:embed="rId2"/>
          <a:stretch/>
        </p:blipFill>
        <p:spPr>
          <a:xfrm>
            <a:off x="2217600" y="907920"/>
            <a:ext cx="4370400" cy="56898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12"/>
          <p:cNvSpPr/>
          <p:nvPr/>
        </p:nvSpPr>
        <p:spPr>
          <a:xfrm>
            <a:off x="3132000" y="1052640"/>
            <a:ext cx="175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Цех №1, зона загрузки  сыр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3"/>
          <p:cNvSpPr/>
          <p:nvPr/>
        </p:nvSpPr>
        <p:spPr>
          <a:xfrm>
            <a:off x="3132000" y="1252440"/>
            <a:ext cx="17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оротный стол 1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2987640" y="167652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Угроза раздавливания, направляющие стола 104  и  конвейера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5"/>
          <p:cNvSpPr/>
          <p:nvPr/>
        </p:nvSpPr>
        <p:spPr>
          <a:xfrm>
            <a:off x="2340000" y="28321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Расстояние между  металлическими направляющими критически мало, менее толщины ладони, что может привести к раздавливанию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2411280" y="342900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вма р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5292720" y="37893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4038480" y="472428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Установить защиту или укоротить направляющие, если это возмож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4114800" y="5962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0"/>
          <p:cNvSpPr/>
          <p:nvPr/>
        </p:nvSpPr>
        <p:spPr>
          <a:xfrm>
            <a:off x="5724360" y="134136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200720" cy="39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Этапы идентификации опасностей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ервый э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оводится осмотр рабочих  мест и анализ  деятельности предприятия с целью выявл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опасных и вредных факторов рабочей среды, которые присутствуют или могут возникнуть, включая организацию тру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идов работ, при которых работники подвергаются выявленным опасным факторам, включая обслуживание оборудования, чистку и аварийные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ичин возникновения потенциальных заболеваний, связанных с выполняемой работой, продукцией или услуг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ведений о ранее имевших место травмах, заболеваниях или происшестви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оставляется или уточняется имеющийся Перечень рабочих мест с отражением в нем опасных и вредных факторов рабочей среды, влияющих на охрану тру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Второй э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лужбой охраны труда проводится информационный поиск и получение информации о влиянии выявленных вредных и опасных факторов производственной среды и трудового процесса на рабо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Третий э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омитетом (специалистом) по охране труда проводится оценка возможности выявления и оценки риска, а также возможности устранения опасности или ее снижения до минимального допустимого уровня или до уровня, который в свете современных знаний не приведет к нарушениям здоровья при длительности воздействия в течение всего рабочего стаж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ключительный э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ыбор дальнейшего направления деятельности. В качестве вариантов дальнейших действий может бы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решение прекратить дальнейший анализ ввиду незначительности опасностей или достаточности полученных предварительных оценок (в этом случае под идентификацией опасностей подразумевается анализ или оценка опасносте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решение о проведении более детального анализа опасностей и оценки рис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ыработка предварительных рекомендаций по уменьшению опасностей.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8"/>
          <p:cNvSpPr/>
          <p:nvPr/>
        </p:nvSpPr>
        <p:spPr>
          <a:xfrm>
            <a:off x="250920" y="413280"/>
            <a:ext cx="8713800" cy="9468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Меры по снижению уровня рис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7740720" y="6491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" descr="http://antivirusprogramdownload.com/wp-content/uploads/2015/02/Antivirus.png"/>
          <p:cNvPicPr/>
          <p:nvPr/>
        </p:nvPicPr>
        <p:blipFill>
          <a:blip r:embed="rId1"/>
          <a:stretch/>
        </p:blipFill>
        <p:spPr>
          <a:xfrm>
            <a:off x="250920" y="2363760"/>
            <a:ext cx="5184720" cy="382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Box 8"/>
          <p:cNvSpPr/>
          <p:nvPr/>
        </p:nvSpPr>
        <p:spPr>
          <a:xfrm>
            <a:off x="165240" y="254160"/>
            <a:ext cx="8653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Для целей снижения уровней риска могут использоваться следующие подх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 algn="just"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снижение числа и мощности источников опас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 algn="just"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снижение вероятности развития или проявления вредных и опасных факто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 algn="just"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уменьшения числа лиц, подвергаемых опас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 algn="just"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снижение вероятности воздействия (например, вероятности развития аварийной ситу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 algn="just"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обследование состояния здоровья работ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Приоритеты выбора мер профилактики (управление рисками)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95280" y="1412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2060"/>
                </a:solidFill>
                <a:latin typeface="Arial"/>
              </a:rPr>
              <a:t>- устранени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асного фактора или рис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</a:rPr>
              <a:t>борьба 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опасным фактором или риском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</a:rPr>
              <a:t>в источник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снижение уровня опасного фактора или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</a:rPr>
              <a:t>внедрение безопасных систем работ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</a:rPr>
              <a:t>при сохранении остаточного риска использование средств индивидуальной защит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комплексе мер профилактики СИЗ используют в случаях, когда другие меры неприменимы или не обеспечивают безопасных условий тру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 этом учитывают следующе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</a:rPr>
              <a:t>необходимость правильного использовани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бслуживания СИ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</a:rPr>
              <a:t>СИЗ могут создавать неудобств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ли быть вредными для здоровья или опасными для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</a:rPr>
              <a:t>СИЗ защищают только пользовател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в то время как другие работники, оказывающиеся в данной рабочей зоне, остаются незащищен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</a:rPr>
              <a:t>СИЗ могут создавать ложное чувство безопасности при неправильном использовании или обслужив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Box 8"/>
          <p:cNvSpPr/>
          <p:nvPr/>
        </p:nvSpPr>
        <p:spPr>
          <a:xfrm>
            <a:off x="117360" y="717480"/>
            <a:ext cx="89092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0404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Ликвидация  опасности</a:t>
            </a:r>
            <a:r>
              <a:rPr b="0" lang="en-US" sz="1800" spc="-1" strike="noStrike">
                <a:solidFill>
                  <a:srgbClr val="040404"/>
                </a:solidFill>
                <a:latin typeface="Arial"/>
              </a:rPr>
              <a:t>  –  может означать модификацию  конструкции,  позволяющая ликвидировать  опасность (использование  механических подъёмных устройств  для  исключения  риска,  связанного  с  ручными подъёмными операция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4"/>
          <p:cNvSpPr/>
          <p:nvPr/>
        </p:nvSpPr>
        <p:spPr>
          <a:xfrm>
            <a:off x="108000" y="4313160"/>
            <a:ext cx="86598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0404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Замена</a:t>
            </a:r>
            <a:r>
              <a:rPr b="0" lang="en-US" sz="1800" spc="-1" strike="noStrike">
                <a:solidFill>
                  <a:srgbClr val="040404"/>
                </a:solidFill>
                <a:latin typeface="Arial"/>
                <a:ea typeface="Times New Roman"/>
              </a:rPr>
              <a:t> – это замена опасного материала на менее опасный или уменьшение энергии  системы (снижение  усилий,  силы  тока,  давления, температуры и т.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Рисунок 5" descr=""/>
          <p:cNvPicPr/>
          <p:nvPr/>
        </p:nvPicPr>
        <p:blipFill>
          <a:blip r:embed="rId1"/>
          <a:stretch/>
        </p:blipFill>
        <p:spPr>
          <a:xfrm>
            <a:off x="900000" y="2043000"/>
            <a:ext cx="2506680" cy="177012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6" descr=""/>
          <p:cNvPicPr/>
          <p:nvPr/>
        </p:nvPicPr>
        <p:blipFill>
          <a:blip r:embed="rId2"/>
          <a:stretch/>
        </p:blipFill>
        <p:spPr>
          <a:xfrm>
            <a:off x="4508640" y="2013120"/>
            <a:ext cx="280008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Прямоугольник 1"/>
          <p:cNvSpPr/>
          <p:nvPr/>
        </p:nvSpPr>
        <p:spPr>
          <a:xfrm>
            <a:off x="250920" y="569880"/>
            <a:ext cx="54007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Технические  средства  контроля</a:t>
            </a:r>
            <a:r>
              <a:rPr b="0" lang="en-US" sz="1800" spc="-1" strike="noStrike">
                <a:solidFill>
                  <a:srgbClr val="040404"/>
                </a:solidFill>
                <a:latin typeface="Arial"/>
                <a:ea typeface="Times New Roman"/>
              </a:rPr>
              <a:t> –  могут предусматривать установку ограждений машин, блокировок, звуковой защиты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"/>
          <p:cNvSpPr/>
          <p:nvPr/>
        </p:nvSpPr>
        <p:spPr>
          <a:xfrm>
            <a:off x="2411280" y="2211480"/>
            <a:ext cx="633744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0404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Сигнализация,  предупреждения, административный  контроль</a:t>
            </a:r>
            <a:r>
              <a:rPr b="0" lang="en-US" sz="1800" spc="-1" strike="noStrike">
                <a:solidFill>
                  <a:srgbClr val="040404"/>
                </a:solidFill>
                <a:latin typeface="Arial"/>
                <a:ea typeface="Times New Roman"/>
              </a:rPr>
              <a:t> – это надписи  о  соблюдении  безопасности,  маркировка  опасных  зон,  фотолюминесцентная  сигнализация,  маркировка  пешеходных  дорожек, допуски на работу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3"/>
          <p:cNvSpPr/>
          <p:nvPr/>
        </p:nvSpPr>
        <p:spPr>
          <a:xfrm>
            <a:off x="250920" y="4633920"/>
            <a:ext cx="6481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0404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ерсональное  защитное  оборудование</a:t>
            </a:r>
            <a:r>
              <a:rPr b="0" lang="en-US" sz="1800" spc="-1" strike="noStrike">
                <a:solidFill>
                  <a:srgbClr val="040404"/>
                </a:solidFill>
                <a:latin typeface="Arial"/>
                <a:ea typeface="Times New Roman"/>
              </a:rPr>
              <a:t> –  защитные  очки,  защита ушей от шума,  маска  на  лице,  ремни  и  стропы  безопасности,  респираторы  и перч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4" descr=""/>
          <p:cNvPicPr/>
          <p:nvPr/>
        </p:nvPicPr>
        <p:blipFill>
          <a:blip r:embed="rId1"/>
          <a:stretch/>
        </p:blipFill>
        <p:spPr>
          <a:xfrm>
            <a:off x="4140360" y="3841920"/>
            <a:ext cx="1306440" cy="57600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5" descr=""/>
          <p:cNvPicPr/>
          <p:nvPr/>
        </p:nvPicPr>
        <p:blipFill>
          <a:blip r:embed="rId2"/>
          <a:stretch/>
        </p:blipFill>
        <p:spPr>
          <a:xfrm>
            <a:off x="284040" y="2681280"/>
            <a:ext cx="1911600" cy="1447920"/>
          </a:xfrm>
          <a:prstGeom prst="rect">
            <a:avLst/>
          </a:prstGeom>
          <a:ln w="0">
            <a:noFill/>
          </a:ln>
        </p:spPr>
      </p:pic>
      <p:pic>
        <p:nvPicPr>
          <p:cNvPr id="462" name="Рисунок 6" descr=""/>
          <p:cNvPicPr/>
          <p:nvPr/>
        </p:nvPicPr>
        <p:blipFill>
          <a:blip r:embed="rId3"/>
          <a:stretch/>
        </p:blipFill>
        <p:spPr>
          <a:xfrm>
            <a:off x="7020000" y="4560840"/>
            <a:ext cx="1574640" cy="115884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7" descr=""/>
          <p:cNvPicPr/>
          <p:nvPr/>
        </p:nvPicPr>
        <p:blipFill>
          <a:blip r:embed="rId4"/>
          <a:stretch/>
        </p:blipFill>
        <p:spPr>
          <a:xfrm>
            <a:off x="5985000" y="790560"/>
            <a:ext cx="1395360" cy="10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Рисунок 1" descr=""/>
          <p:cNvPicPr/>
          <p:nvPr/>
        </p:nvPicPr>
        <p:blipFill>
          <a:blip r:embed="rId1"/>
          <a:stretch/>
        </p:blipFill>
        <p:spPr>
          <a:xfrm>
            <a:off x="6300720" y="882720"/>
            <a:ext cx="2843280" cy="38512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10"/>
          <p:cNvSpPr/>
          <p:nvPr/>
        </p:nvSpPr>
        <p:spPr>
          <a:xfrm>
            <a:off x="141120" y="428760"/>
            <a:ext cx="65977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040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40404"/>
                </a:solidFill>
                <a:latin typeface="Arial"/>
              </a:rPr>
              <a:t>По результатам проделанной работы разрабатывается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План управления</a:t>
            </a:r>
            <a:r>
              <a:rPr b="0" lang="en-US" sz="1800" spc="-1" strike="noStrike">
                <a:solidFill>
                  <a:srgbClr val="040404"/>
                </a:solidFill>
                <a:latin typeface="Arial"/>
              </a:rPr>
              <a:t> высокими и средними рис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163440" y="1911240"/>
            <a:ext cx="6526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040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40404"/>
                </a:solidFill>
                <a:latin typeface="Arial"/>
              </a:rPr>
              <a:t>В плане указываются конкретные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мероприятия</a:t>
            </a:r>
            <a:r>
              <a:rPr b="0" lang="en-US" sz="1800" spc="-1" strike="noStrike">
                <a:solidFill>
                  <a:srgbClr val="040404"/>
                </a:solidFill>
                <a:latin typeface="Arial"/>
              </a:rPr>
              <a:t>, а так же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ответственные лица</a:t>
            </a:r>
            <a:r>
              <a:rPr b="0" lang="en-US" sz="1800" spc="-1" strike="noStrike">
                <a:solidFill>
                  <a:srgbClr val="040404"/>
                </a:solidFill>
                <a:latin typeface="Arial"/>
              </a:rPr>
              <a:t> за его выпол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217440" y="3235320"/>
            <a:ext cx="5545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040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40404"/>
                </a:solidFill>
                <a:latin typeface="Arial"/>
              </a:rPr>
              <a:t>План должен содержать конкретные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сроки выполнения</a:t>
            </a:r>
            <a:r>
              <a:rPr b="0" lang="en-US" sz="1800" spc="-1" strike="noStrike">
                <a:solidFill>
                  <a:srgbClr val="040404"/>
                </a:solidFill>
                <a:latin typeface="Arial"/>
              </a:rPr>
              <a:t>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250920" y="4944960"/>
            <a:ext cx="820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040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40404"/>
                </a:solidFill>
                <a:latin typeface="Arial"/>
              </a:rPr>
              <a:t>План должен постоянно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анализироваться</a:t>
            </a:r>
            <a:r>
              <a:rPr b="0" lang="en-US" sz="1800" spc="-1" strike="noStrike">
                <a:solidFill>
                  <a:srgbClr val="040404"/>
                </a:solidFill>
                <a:latin typeface="Arial"/>
              </a:rPr>
              <a:t> ответственными лицами на предмет своевременности выполнения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Заголовок 4"/>
          <p:cNvSpPr/>
          <p:nvPr/>
        </p:nvSpPr>
        <p:spPr>
          <a:xfrm>
            <a:off x="284040" y="104760"/>
            <a:ext cx="8626680" cy="507960"/>
          </a:xfrm>
          <a:prstGeom prst="rect">
            <a:avLst/>
          </a:prstGeom>
          <a:solidFill>
            <a:srgbClr val="a3c2c2"/>
          </a:solidFill>
          <a:ln w="25560">
            <a:solidFill>
              <a:srgbClr val="41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Меры управления ри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Группа 7"/>
          <p:cNvGrpSpPr/>
          <p:nvPr/>
        </p:nvGrpSpPr>
        <p:grpSpPr>
          <a:xfrm>
            <a:off x="496800" y="871560"/>
            <a:ext cx="8413920" cy="2349360"/>
            <a:chOff x="496800" y="871560"/>
            <a:chExt cx="8413920" cy="2349360"/>
          </a:xfrm>
        </p:grpSpPr>
        <p:pic>
          <p:nvPicPr>
            <p:cNvPr id="471" name="Picture 2" descr=""/>
            <p:cNvPicPr/>
            <p:nvPr/>
          </p:nvPicPr>
          <p:blipFill>
            <a:blip r:embed="rId1"/>
            <a:stretch/>
          </p:blipFill>
          <p:spPr>
            <a:xfrm>
              <a:off x="496800" y="871560"/>
              <a:ext cx="2631600" cy="234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3" descr=""/>
            <p:cNvPicPr/>
            <p:nvPr/>
          </p:nvPicPr>
          <p:blipFill>
            <a:blip r:embed="rId2"/>
            <a:stretch/>
          </p:blipFill>
          <p:spPr>
            <a:xfrm>
              <a:off x="3400560" y="871560"/>
              <a:ext cx="2633760" cy="23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5" descr=""/>
            <p:cNvPicPr/>
            <p:nvPr/>
          </p:nvPicPr>
          <p:blipFill>
            <a:blip r:embed="rId3"/>
            <a:stretch/>
          </p:blipFill>
          <p:spPr>
            <a:xfrm>
              <a:off x="6246000" y="871560"/>
              <a:ext cx="2664720" cy="234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4" name="Picture 4" descr="http://resource2.ultdb.net/res/org0011/IPE/14-07/20140730O5C9.jpg"/>
          <p:cNvPicPr/>
          <p:nvPr/>
        </p:nvPicPr>
        <p:blipFill>
          <a:blip r:embed="rId4"/>
          <a:stretch/>
        </p:blipFill>
        <p:spPr>
          <a:xfrm>
            <a:off x="299880" y="3395520"/>
            <a:ext cx="3100680" cy="2660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http://operby.com/wp-content/uploads/2012/11/45.png"/>
          <p:cNvPicPr/>
          <p:nvPr/>
        </p:nvPicPr>
        <p:blipFill>
          <a:blip r:embed="rId5"/>
          <a:stretch/>
        </p:blipFill>
        <p:spPr>
          <a:xfrm>
            <a:off x="4114800" y="3395520"/>
            <a:ext cx="426240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17" descr="risk 1"/>
          <p:cNvPicPr/>
          <p:nvPr/>
        </p:nvPicPr>
        <p:blipFill>
          <a:blip r:embed="rId1"/>
          <a:stretch/>
        </p:blipFill>
        <p:spPr>
          <a:xfrm>
            <a:off x="0" y="189000"/>
            <a:ext cx="7812000" cy="24382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8" descr="risk 2"/>
          <p:cNvPicPr/>
          <p:nvPr/>
        </p:nvPicPr>
        <p:blipFill>
          <a:blip r:embed="rId2"/>
          <a:stretch/>
        </p:blipFill>
        <p:spPr>
          <a:xfrm>
            <a:off x="701640" y="3500280"/>
            <a:ext cx="6819840" cy="20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5"/>
          <p:cNvSpPr/>
          <p:nvPr/>
        </p:nvSpPr>
        <p:spPr>
          <a:xfrm>
            <a:off x="250920" y="1284120"/>
            <a:ext cx="842472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Arial"/>
              </a:rPr>
              <a:t>33. С целью организации процедуры управления профессиональными рисками работодатель исходя из специфики своей деятельности устанавливает (определяет) </a:t>
            </a:r>
            <a:r>
              <a:rPr b="0" lang="en-US" sz="1500" spc="-1" strike="noStrike" u="sng">
                <a:solidFill>
                  <a:srgbClr val="002060"/>
                </a:solidFill>
                <a:uFillTx/>
                <a:latin typeface="Arial"/>
              </a:rPr>
              <a:t>порядок реализации следующих мероприятий </a:t>
            </a:r>
            <a:r>
              <a:rPr b="0" lang="en-US" sz="1500" spc="-1" strike="noStrike">
                <a:solidFill>
                  <a:srgbClr val="002060"/>
                </a:solidFill>
                <a:latin typeface="Arial"/>
              </a:rPr>
              <a:t>по управлению профессиональными рискам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Arial"/>
              </a:rPr>
              <a:t>а) выявление опасностей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Arial"/>
              </a:rPr>
              <a:t>б) оценка уровней профессиональных рисков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Arial"/>
              </a:rPr>
              <a:t>в) снижение уровней профессиональных риск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244440" y="689040"/>
            <a:ext cx="8655120" cy="438120"/>
          </a:xfrm>
          <a:prstGeom prst="rect">
            <a:avLst/>
          </a:prstGeom>
          <a:ln w="0">
            <a:noFill/>
          </a:ln>
        </p:spPr>
      </p:pic>
      <p:pic>
        <p:nvPicPr>
          <p:cNvPr id="243" name="Rectangle 2" descr=""/>
          <p:cNvPicPr/>
          <p:nvPr/>
        </p:nvPicPr>
        <p:blipFill>
          <a:blip r:embed="rId2"/>
          <a:stretch/>
        </p:blipFill>
        <p:spPr>
          <a:xfrm>
            <a:off x="1395360" y="23760"/>
            <a:ext cx="6426360" cy="689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http://www.dpol4.ru/img/picture/Nov/20/42f843e8618888ec8ef1146c9d7b2d33/3.jpg"/>
          <p:cNvPicPr/>
          <p:nvPr/>
        </p:nvPicPr>
        <p:blipFill>
          <a:blip r:embed="rId3"/>
          <a:stretch/>
        </p:blipFill>
        <p:spPr>
          <a:xfrm>
            <a:off x="5518080" y="2708280"/>
            <a:ext cx="3510000" cy="28083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5"/>
          <p:cNvSpPr/>
          <p:nvPr/>
        </p:nvSpPr>
        <p:spPr>
          <a:xfrm>
            <a:off x="250920" y="2938320"/>
            <a:ext cx="511020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Arial"/>
              </a:rPr>
              <a:t>34. </a:t>
            </a:r>
            <a:r>
              <a:rPr b="0" lang="en-US" sz="1500" spc="-1" strike="noStrike" u="sng">
                <a:solidFill>
                  <a:srgbClr val="002060"/>
                </a:solidFill>
                <a:uFillTx/>
                <a:latin typeface="Arial"/>
              </a:rPr>
              <a:t>Идентификация опасностей</a:t>
            </a:r>
            <a:r>
              <a:rPr b="0" lang="en-US" sz="1500" spc="-1" strike="noStrike">
                <a:solidFill>
                  <a:srgbClr val="002060"/>
                </a:solidFill>
                <a:latin typeface="Arial"/>
              </a:rPr>
              <a:t>, представляющих угрозу жизни и здоровью работников, и </a:t>
            </a:r>
            <a:r>
              <a:rPr b="0" lang="en-US" sz="1500" spc="-1" strike="noStrike" u="sng">
                <a:solidFill>
                  <a:srgbClr val="002060"/>
                </a:solidFill>
                <a:uFillTx/>
                <a:latin typeface="Arial"/>
              </a:rPr>
              <a:t>составление их перечня </a:t>
            </a:r>
            <a:r>
              <a:rPr b="0" lang="en-US" sz="1500" spc="-1" strike="noStrike">
                <a:solidFill>
                  <a:srgbClr val="002060"/>
                </a:solidFill>
                <a:latin typeface="Arial"/>
              </a:rPr>
              <a:t>осуществляются работодателем с привлечением службы (специалиста) охраны труда, комитета (комиссии) по охране труда, работников или уполномоченных ими представительных орган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35. </a:t>
            </a:r>
            <a:r>
              <a:rPr b="0" lang="en-US" sz="1600" spc="-1" strike="noStrike" u="sng">
                <a:solidFill>
                  <a:srgbClr val="002060"/>
                </a:solidFill>
                <a:uFillTx/>
                <a:latin typeface="Arial"/>
              </a:rPr>
              <a:t>В качестве опасностей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, представляющих угрозу жизни и здоровью работников, работодатель исходя из специфики своей деятельности </a:t>
            </a:r>
            <a:r>
              <a:rPr b="0" lang="en-US" sz="1600" spc="-1" strike="noStrike" u="sng">
                <a:solidFill>
                  <a:srgbClr val="002060"/>
                </a:solidFill>
                <a:uFillTx/>
                <a:latin typeface="Arial"/>
              </a:rPr>
              <a:t>вправе рассматривать любые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из следующи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4" descr="risk 3"/>
          <p:cNvPicPr/>
          <p:nvPr/>
        </p:nvPicPr>
        <p:blipFill>
          <a:blip r:embed="rId1"/>
          <a:stretch/>
        </p:blipFill>
        <p:spPr>
          <a:xfrm>
            <a:off x="0" y="0"/>
            <a:ext cx="4211640" cy="58053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5" descr="risk 4"/>
          <p:cNvPicPr/>
          <p:nvPr/>
        </p:nvPicPr>
        <p:blipFill>
          <a:blip r:embed="rId2"/>
          <a:stretch/>
        </p:blipFill>
        <p:spPr>
          <a:xfrm>
            <a:off x="4284720" y="210492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Заголовок 4"/>
          <p:cNvSpPr/>
          <p:nvPr/>
        </p:nvSpPr>
        <p:spPr>
          <a:xfrm>
            <a:off x="284040" y="104760"/>
            <a:ext cx="8626680" cy="507960"/>
          </a:xfrm>
          <a:prstGeom prst="rect">
            <a:avLst/>
          </a:prstGeom>
          <a:solidFill>
            <a:srgbClr val="a3c2c2"/>
          </a:solidFill>
          <a:ln w="25560">
            <a:solidFill>
              <a:srgbClr val="41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Меры управления ри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https://www.humantech.com/wp-content/uploads/2015/02/LK_July_before_after.jpg"/>
          <p:cNvPicPr/>
          <p:nvPr/>
        </p:nvPicPr>
        <p:blipFill>
          <a:blip r:embed="rId1"/>
          <a:stretch/>
        </p:blipFill>
        <p:spPr>
          <a:xfrm>
            <a:off x="284040" y="757080"/>
            <a:ext cx="5842080" cy="2654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" descr="http://cdn.simplifiedsafety.com/images/800/rooftop-railing-before-after-1.jpg"/>
          <p:cNvPicPr/>
          <p:nvPr/>
        </p:nvPicPr>
        <p:blipFill>
          <a:blip r:embed="rId2"/>
          <a:stretch/>
        </p:blipFill>
        <p:spPr>
          <a:xfrm>
            <a:off x="2487600" y="3646440"/>
            <a:ext cx="6297480" cy="23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Заголовок 4"/>
          <p:cNvSpPr/>
          <p:nvPr/>
        </p:nvSpPr>
        <p:spPr>
          <a:xfrm>
            <a:off x="284040" y="104760"/>
            <a:ext cx="8626680" cy="507960"/>
          </a:xfrm>
          <a:prstGeom prst="rect">
            <a:avLst/>
          </a:prstGeom>
          <a:solidFill>
            <a:srgbClr val="a3c2c2"/>
          </a:solidFill>
          <a:ln w="25560">
            <a:solidFill>
              <a:srgbClr val="41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Меры управления ри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https://www.humantech.com/wp-content/uploads/2015/02/LK_July_before_after.jpg"/>
          <p:cNvPicPr/>
          <p:nvPr/>
        </p:nvPicPr>
        <p:blipFill>
          <a:blip r:embed="rId1"/>
          <a:stretch/>
        </p:blipFill>
        <p:spPr>
          <a:xfrm>
            <a:off x="284040" y="757080"/>
            <a:ext cx="5842080" cy="2654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http://cdn.simplifiedsafety.com/images/800/rooftop-railing-before-after-1.jpg"/>
          <p:cNvPicPr/>
          <p:nvPr/>
        </p:nvPicPr>
        <p:blipFill>
          <a:blip r:embed="rId2"/>
          <a:stretch/>
        </p:blipFill>
        <p:spPr>
          <a:xfrm>
            <a:off x="2487600" y="3646440"/>
            <a:ext cx="6297480" cy="23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рямоугольник 4"/>
          <p:cNvSpPr/>
          <p:nvPr/>
        </p:nvSpPr>
        <p:spPr>
          <a:xfrm>
            <a:off x="2340000" y="981000"/>
            <a:ext cx="561672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Административная ответственн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060"/>
                </a:solidFill>
                <a:latin typeface="Arial"/>
              </a:rPr>
              <a:t>(ч. 1  статьи 5.27.1 КоАП РФ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ожение административного штраф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олжностных лиц в размере от 2 000 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 000 тысяч руб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юридических лиц в размере от 50 000 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 000 руб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повторное аналогичное правонару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ое лицо подлежит  наложению штрафа в размере от 30 000 тысяч до 40 000 тысяч рублей или дисквалификации на срок до 3 л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ридическое лицо подлежит наложению штрафа в размере от 100 000 тысяч до 200 000 тысяч рублей или административному приостановлению деятельности на срок до 90 су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Уголовная ответственн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060"/>
                </a:solidFill>
                <a:latin typeface="Arial"/>
              </a:rPr>
              <a:t>(ст. 143 УК Р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лишение свободы сроком до 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5"/>
          <p:cNvSpPr/>
          <p:nvPr/>
        </p:nvSpPr>
        <p:spPr>
          <a:xfrm>
            <a:off x="0" y="0"/>
            <a:ext cx="7020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ОТВЕТСТВЕННОСТЬ  ЗА  НЕ ПРОВЕДЕНИЕ  ПРОЦЕДУРЫ  ОЦЕНКИ ПРОФЕССИОНАЛЬНЫХ РИСКОВ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0" y="1916280"/>
            <a:ext cx="2195640" cy="49417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164360" y="0"/>
            <a:ext cx="1979640" cy="2664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" descr="BS00285_"/>
          <p:cNvPicPr/>
          <p:nvPr/>
        </p:nvPicPr>
        <p:blipFill>
          <a:blip r:embed="rId3"/>
          <a:stretch/>
        </p:blipFill>
        <p:spPr>
          <a:xfrm>
            <a:off x="7164360" y="5029200"/>
            <a:ext cx="17636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4"/>
          <p:cNvSpPr/>
          <p:nvPr/>
        </p:nvSpPr>
        <p:spPr>
          <a:xfrm>
            <a:off x="2627280" y="1844640"/>
            <a:ext cx="3960720" cy="2565360"/>
          </a:xfrm>
          <a:prstGeom prst="horizont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7e9ce8"/>
                </a:solidFill>
                <a:latin typeface="Arial"/>
              </a:rPr>
              <a:t>Прохоро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7e9ce8"/>
                </a:solidFill>
                <a:latin typeface="Arial"/>
              </a:rPr>
              <a:t>Лариса Васильев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7e9ce8"/>
                </a:solidFill>
                <a:latin typeface="Arial"/>
              </a:rPr>
              <a:t>главный специалис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7e9ce8"/>
                </a:solidFill>
                <a:latin typeface="Arial"/>
              </a:rPr>
              <a:t>Управления экономического развития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7e9ce8"/>
                </a:solidFill>
                <a:latin typeface="Arial"/>
              </a:rPr>
              <a:t>администрации МО «Котлас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5"/>
          <p:cNvSpPr/>
          <p:nvPr/>
        </p:nvSpPr>
        <p:spPr>
          <a:xfrm>
            <a:off x="250920" y="1292400"/>
            <a:ext cx="842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36. При рассмотрении перечисленных в пункте 35 настоящего Типового положения опасностей работодателем </a:t>
            </a:r>
            <a:r>
              <a:rPr b="0" lang="en-US" sz="1600" spc="-1" strike="noStrike" u="sng">
                <a:solidFill>
                  <a:srgbClr val="002060"/>
                </a:solidFill>
                <a:uFillTx/>
                <a:latin typeface="Arial"/>
              </a:rPr>
              <a:t>устанавливается порядок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проведения </a:t>
            </a:r>
            <a:r>
              <a:rPr b="0" lang="en-US" sz="1600" spc="-1" strike="noStrike" u="sng">
                <a:solidFill>
                  <a:srgbClr val="002060"/>
                </a:solidFill>
                <a:uFillTx/>
                <a:latin typeface="Arial"/>
              </a:rPr>
              <a:t>анализа, оценки и упорядочивания всех выявленных опасностей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исходя из </a:t>
            </a:r>
            <a:r>
              <a:rPr b="0" lang="en-US" sz="1600" spc="-1" strike="noStrike" u="sng">
                <a:solidFill>
                  <a:srgbClr val="002060"/>
                </a:solidFill>
                <a:uFillTx/>
                <a:latin typeface="Arial"/>
              </a:rPr>
              <a:t>приоритета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необходимости </a:t>
            </a:r>
            <a:r>
              <a:rPr b="0" lang="en-US" sz="1600" spc="-1" strike="noStrike" u="sng">
                <a:solidFill>
                  <a:srgbClr val="002060"/>
                </a:solidFill>
                <a:uFillTx/>
                <a:latin typeface="Arial"/>
              </a:rPr>
              <a:t>исключения или снижения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уровня создаваемого ими профессионального риска и с учетом </a:t>
            </a:r>
            <a:r>
              <a:rPr b="0" lang="en-US" sz="1600" spc="-1" strike="noStrike" u="sng">
                <a:solidFill>
                  <a:srgbClr val="002060"/>
                </a:solidFill>
                <a:uFillTx/>
                <a:latin typeface="Arial"/>
              </a:rPr>
              <a:t>не только штатных условий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своей деятельности, но и случаев </a:t>
            </a:r>
            <a:r>
              <a:rPr b="0" lang="en-US" sz="1600" spc="-1" strike="noStrike" u="sng">
                <a:solidFill>
                  <a:srgbClr val="002060"/>
                </a:solidFill>
                <a:uFillTx/>
                <a:latin typeface="Arial"/>
              </a:rPr>
              <a:t>отклонений в работе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, в том числе связанных с возможными авар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244440" y="689040"/>
            <a:ext cx="8655120" cy="438120"/>
          </a:xfrm>
          <a:prstGeom prst="rect">
            <a:avLst/>
          </a:prstGeom>
          <a:ln w="0">
            <a:noFill/>
          </a:ln>
        </p:spPr>
      </p:pic>
      <p:pic>
        <p:nvPicPr>
          <p:cNvPr id="248" name="Rectangle 2" descr=""/>
          <p:cNvPicPr/>
          <p:nvPr/>
        </p:nvPicPr>
        <p:blipFill>
          <a:blip r:embed="rId2"/>
          <a:stretch/>
        </p:blipFill>
        <p:spPr>
          <a:xfrm>
            <a:off x="1395360" y="23760"/>
            <a:ext cx="6426360" cy="689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http://www.uib.no/sites/w3.uib.no/files/w2/he/health_hazards_colourbox2602603.jpg"/>
          <p:cNvPicPr/>
          <p:nvPr/>
        </p:nvPicPr>
        <p:blipFill>
          <a:blip r:embed="rId3"/>
          <a:stretch/>
        </p:blipFill>
        <p:spPr>
          <a:xfrm>
            <a:off x="5987880" y="3265560"/>
            <a:ext cx="2840040" cy="33321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250920" y="3678120"/>
            <a:ext cx="565920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Arial"/>
              </a:rPr>
              <a:t>37. </a:t>
            </a:r>
            <a:r>
              <a:rPr b="0" lang="en-US" sz="1500" spc="-1" strike="noStrike" u="sng">
                <a:solidFill>
                  <a:srgbClr val="002060"/>
                </a:solidFill>
                <a:uFillTx/>
                <a:latin typeface="Arial"/>
              </a:rPr>
              <a:t>Методы оценки </a:t>
            </a:r>
            <a:r>
              <a:rPr b="0" lang="en-US" sz="1500" spc="-1" strike="noStrike">
                <a:solidFill>
                  <a:srgbClr val="002060"/>
                </a:solidFill>
                <a:latin typeface="Arial"/>
              </a:rPr>
              <a:t>уровня профессиональных рисков </a:t>
            </a:r>
            <a:r>
              <a:rPr b="0" lang="en-US" sz="1500" spc="-1" strike="noStrike" u="sng">
                <a:solidFill>
                  <a:srgbClr val="002060"/>
                </a:solidFill>
                <a:uFillTx/>
                <a:latin typeface="Arial"/>
              </a:rPr>
              <a:t>определяются работодателем</a:t>
            </a:r>
            <a:r>
              <a:rPr b="0" lang="en-US" sz="1500" spc="-1" strike="noStrike">
                <a:solidFill>
                  <a:srgbClr val="002060"/>
                </a:solidFill>
                <a:latin typeface="Arial"/>
              </a:rPr>
              <a:t> с учетом характера своей деятельности и сложности выполняемых операц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2060"/>
                </a:solidFill>
                <a:uFillTx/>
                <a:latin typeface="Arial"/>
              </a:rPr>
              <a:t>Допускается использование разных методов </a:t>
            </a:r>
            <a:r>
              <a:rPr b="0" lang="en-US" sz="1500" spc="-1" strike="noStrike">
                <a:solidFill>
                  <a:srgbClr val="002060"/>
                </a:solidFill>
                <a:latin typeface="Arial"/>
              </a:rPr>
              <a:t>оценки уровня профессиональных </a:t>
            </a:r>
            <a:r>
              <a:rPr b="0" lang="en-US" sz="1500" spc="-1" strike="noStrike" u="sng">
                <a:solidFill>
                  <a:srgbClr val="002060"/>
                </a:solidFill>
                <a:uFillTx/>
                <a:latin typeface="Arial"/>
              </a:rPr>
              <a:t>рисков для разных процессов </a:t>
            </a:r>
            <a:r>
              <a:rPr b="0" lang="en-US" sz="1500" spc="-1" strike="noStrike">
                <a:solidFill>
                  <a:srgbClr val="002060"/>
                </a:solidFill>
                <a:latin typeface="Arial"/>
              </a:rPr>
              <a:t>и операц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5"/>
          <p:cNvSpPr/>
          <p:nvPr/>
        </p:nvSpPr>
        <p:spPr>
          <a:xfrm>
            <a:off x="250920" y="1327320"/>
            <a:ext cx="8424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38. При описании процедуры управления профессиональными рисками работодателем учитывается следующе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а) управление профессиональными рисками осуществляется </a:t>
            </a:r>
            <a:r>
              <a:rPr b="0" lang="en-US" sz="1600" spc="-1" strike="noStrike" u="sng">
                <a:solidFill>
                  <a:srgbClr val="002060"/>
                </a:solidFill>
                <a:uFillTx/>
                <a:latin typeface="Arial"/>
              </a:rPr>
              <a:t>с учетом текущей, прошлой и будущей деятельности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работодате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б) </a:t>
            </a:r>
            <a:r>
              <a:rPr b="0" lang="en-US" sz="1600" spc="-1" strike="noStrike" u="sng">
                <a:solidFill>
                  <a:srgbClr val="002060"/>
                </a:solidFill>
                <a:uFillTx/>
                <a:latin typeface="Arial"/>
              </a:rPr>
              <a:t>тяжесть возможного ущерба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растет пропорционально увеличению числа людей, подвергающихся опас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в</a:t>
            </a:r>
            <a:r>
              <a:rPr b="0" lang="en-US" sz="1600" spc="-1" strike="noStrike" u="sng">
                <a:solidFill>
                  <a:srgbClr val="002060"/>
                </a:solidFill>
                <a:uFillTx/>
                <a:latin typeface="Arial"/>
              </a:rPr>
              <a:t>) все оцененные профессиональные риски подлежат управлению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г) </a:t>
            </a:r>
            <a:r>
              <a:rPr b="0" lang="en-US" sz="1600" spc="-1" strike="noStrike" u="sng">
                <a:solidFill>
                  <a:srgbClr val="002060"/>
                </a:solidFill>
                <a:uFillTx/>
                <a:latin typeface="Arial"/>
              </a:rPr>
              <a:t>процедуры выявления опасностей и оценки уровня профессиональных рисков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должны постоянно </a:t>
            </a:r>
            <a:r>
              <a:rPr b="0" lang="en-US" sz="1600" spc="-1" strike="noStrike" u="sng">
                <a:solidFill>
                  <a:srgbClr val="002060"/>
                </a:solidFill>
                <a:uFillTx/>
                <a:latin typeface="Arial"/>
              </a:rPr>
              <a:t>совершенствоваться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и поддерживаться в рабочем состоянии с целью обеспечения эффективной реализации мер по их сниже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д) </a:t>
            </a:r>
            <a:r>
              <a:rPr b="0" lang="en-US" sz="1600" spc="-1" strike="noStrike" u="sng">
                <a:solidFill>
                  <a:srgbClr val="002060"/>
                </a:solidFill>
                <a:uFillTx/>
                <a:latin typeface="Arial"/>
              </a:rPr>
              <a:t>эффективность разработанных мер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по управлению профессиональными рисками должна постоянно </a:t>
            </a:r>
            <a:r>
              <a:rPr b="0" lang="en-US" sz="1600" spc="-1" strike="noStrike" u="sng">
                <a:solidFill>
                  <a:srgbClr val="002060"/>
                </a:solidFill>
                <a:uFillTx/>
                <a:latin typeface="Arial"/>
              </a:rPr>
              <a:t>оцениваться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244440" y="738360"/>
            <a:ext cx="8655120" cy="493560"/>
          </a:xfrm>
          <a:prstGeom prst="rect">
            <a:avLst/>
          </a:prstGeom>
          <a:ln w="0">
            <a:noFill/>
          </a:ln>
        </p:spPr>
      </p:pic>
      <p:pic>
        <p:nvPicPr>
          <p:cNvPr id="253" name="Rectangle 2" descr=""/>
          <p:cNvPicPr/>
          <p:nvPr/>
        </p:nvPicPr>
        <p:blipFill>
          <a:blip r:embed="rId2"/>
          <a:stretch/>
        </p:blipFill>
        <p:spPr>
          <a:xfrm>
            <a:off x="1395360" y="23760"/>
            <a:ext cx="6426360" cy="689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http://www.strongsecurity.com.au/new-strongs/wp-content/uploads/2015/12/risk-management.jpg"/>
          <p:cNvPicPr/>
          <p:nvPr/>
        </p:nvPicPr>
        <p:blipFill>
          <a:blip r:embed="rId3"/>
          <a:stretch/>
        </p:blipFill>
        <p:spPr>
          <a:xfrm>
            <a:off x="5796000" y="4124160"/>
            <a:ext cx="3139920" cy="21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5"/>
          <p:cNvSpPr/>
          <p:nvPr/>
        </p:nvSpPr>
        <p:spPr>
          <a:xfrm>
            <a:off x="250920" y="1447920"/>
            <a:ext cx="8424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39. К </a:t>
            </a:r>
            <a:r>
              <a:rPr b="0" lang="en-US" sz="1600" spc="-1" strike="noStrike" u="sng">
                <a:solidFill>
                  <a:srgbClr val="002060"/>
                </a:solidFill>
                <a:uFillTx/>
                <a:latin typeface="Arial"/>
              </a:rPr>
              <a:t>мерам по исключению или снижению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уровней профессиональных рисков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а) исключение опасной работы (процедур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б) замена опасной работы (процедуры) менее опасн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в) реализация инженерных (технических) методов ограничения риска воздействия опасностей на работ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г) реализация административных методов ограничения времени воздействия опасностей на работ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д) использование средств индивидуальной защи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е) страхование профессионального ри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244440" y="719280"/>
            <a:ext cx="8655120" cy="493560"/>
          </a:xfrm>
          <a:prstGeom prst="rect">
            <a:avLst/>
          </a:prstGeom>
          <a:ln w="0">
            <a:noFill/>
          </a:ln>
        </p:spPr>
      </p:pic>
      <p:pic>
        <p:nvPicPr>
          <p:cNvPr id="257" name="Rectangle 2" descr=""/>
          <p:cNvPicPr/>
          <p:nvPr/>
        </p:nvPicPr>
        <p:blipFill>
          <a:blip r:embed="rId2"/>
          <a:stretch/>
        </p:blipFill>
        <p:spPr>
          <a:xfrm>
            <a:off x="1395360" y="23760"/>
            <a:ext cx="6426360" cy="689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ttps://crotraining.co.uk/wp-content/uploads/2015/02/RiskPic.jpg"/>
          <p:cNvPicPr/>
          <p:nvPr/>
        </p:nvPicPr>
        <p:blipFill>
          <a:blip r:embed="rId3"/>
          <a:stretch/>
        </p:blipFill>
        <p:spPr>
          <a:xfrm>
            <a:off x="5472000" y="3833640"/>
            <a:ext cx="3638520" cy="243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3"/>
          <p:cNvSpPr/>
          <p:nvPr/>
        </p:nvSpPr>
        <p:spPr>
          <a:xfrm>
            <a:off x="276120" y="1230480"/>
            <a:ext cx="52358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Процесс управления профессиональными рисками состоит из трех этап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2060"/>
                </a:solidFill>
                <a:uFillTx/>
                <a:latin typeface="Arial"/>
              </a:rPr>
              <a:t>выявление (идентификация) опас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2. </a:t>
            </a:r>
            <a:r>
              <a:rPr b="1" lang="en-US" sz="1600" spc="-1" strike="noStrike" u="sng">
                <a:solidFill>
                  <a:srgbClr val="002060"/>
                </a:solidFill>
                <a:uFillTx/>
                <a:latin typeface="Arial"/>
              </a:rPr>
              <a:t>оценка уровня рисков, связанных с выявленными опасност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3. </a:t>
            </a:r>
            <a:r>
              <a:rPr b="1" lang="en-US" sz="1600" spc="-1" strike="noStrike" u="sng">
                <a:solidFill>
                  <a:srgbClr val="002060"/>
                </a:solidFill>
                <a:uFillTx/>
                <a:latin typeface="Arial"/>
              </a:rPr>
              <a:t>разработка мероприятий по снижению уровней профессиональных рис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https://repetitora.com/files/images/%D0%9F%D1%80%D0%B8%D0%BC%D0%B5%D1%80%20%D0%BA%D0%B0%D1%80%D1%82%D1%8B%20%D1%80%D0%B8%D1%81%D0%BA%D0%BE%D0%B2.jpg"/>
          <p:cNvPicPr/>
          <p:nvPr/>
        </p:nvPicPr>
        <p:blipFill>
          <a:blip r:embed="rId1"/>
          <a:stretch/>
        </p:blipFill>
        <p:spPr>
          <a:xfrm>
            <a:off x="5940360" y="2997360"/>
            <a:ext cx="2745000" cy="1849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http://rosseti14.kerrygun.ru/images/pages/3/Osnovnie%20metodi%20i%20meropriyatiya%20po%20upravleniyu%20riskami%20v%20Obshestve%20i%20DZO.png"/>
          <p:cNvPicPr/>
          <p:nvPr/>
        </p:nvPicPr>
        <p:blipFill>
          <a:blip r:embed="rId2"/>
          <a:srcRect l="0" t="0" r="-105" b="286"/>
          <a:stretch/>
        </p:blipFill>
        <p:spPr>
          <a:xfrm>
            <a:off x="5651640" y="4941720"/>
            <a:ext cx="1717560" cy="1130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https://f.vbr.ru/texteditor/moxiemanager/data/files/!inshurence_shans.jpg"/>
          <p:cNvPicPr/>
          <p:nvPr/>
        </p:nvPicPr>
        <p:blipFill>
          <a:blip r:embed="rId3"/>
          <a:stretch/>
        </p:blipFill>
        <p:spPr>
          <a:xfrm>
            <a:off x="4932360" y="1628640"/>
            <a:ext cx="1731960" cy="12290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3"/>
          <p:cNvSpPr/>
          <p:nvPr/>
        </p:nvSpPr>
        <p:spPr>
          <a:xfrm>
            <a:off x="492120" y="239760"/>
            <a:ext cx="8020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Процесс управления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7:38:01Z</dcterms:created>
  <dc:creator>Лисса</dc:creator>
  <dc:description/>
  <dc:language>en-US</dc:language>
  <cp:lastModifiedBy>trud</cp:lastModifiedBy>
  <dcterms:modified xsi:type="dcterms:W3CDTF">2020-04-01T12:42:56Z</dcterms:modified>
  <cp:revision>230</cp:revision>
  <dc:subject/>
  <dc:title>Определение опасностей и оценка профессионального риска в условиях реального производ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320000000000010280b00207e700052003a000</vt:lpwstr>
  </property>
</Properties>
</file>