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9AB-64EC-4048-AB13-76426A59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19F-DAA1-4580-BB72-6295B5B5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9D1-D18F-4F1C-9ECD-E1BDD3C2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A69-1E53-45ED-A62F-47D392D9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C9B2-F072-483D-B91C-852F7401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092F-E4E3-40C5-AA0F-A643BA6B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0943-180E-468F-B746-81B1044A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CA61-85A7-4AB9-83F0-E8C81C03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A53F-EF7C-4CFA-9EFD-197B10DE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A58A-0937-4811-B0A4-586E0B0C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7997-EBB0-42C3-82FA-B8E3271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273-386D-46C2-B07A-A638A899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F0F6-0BFC-44FA-8E49-9D2D76CE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80A6-7629-4B9C-9126-5FD456E4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5CC5-5F75-44C9-8746-CB163389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5442-ECAF-4A25-8B40-7D0361EF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0D06-2907-4062-B4D3-B19D84C6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06F-4704-498A-B3EA-B7146186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7E6-220A-4070-A674-3FC4CB0D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43D-3708-45AF-86C7-1761EBA6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41F-631D-41C3-A37B-FF115CE6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680-DBD5-4A43-A3BA-8B8E3920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409-0C59-490A-B2C6-AB3D4789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FEC-5A05-4EF7-AFE3-2CC0E24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5C2C-76E7-4932-BCD9-4C3DE2A31A1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A895-4168-469E-B7D8-6A2D8C2E22A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udcodex.ru/" TargetMode="External"/><Relationship Id="rId2" Type="http://schemas.openxmlformats.org/officeDocument/2006/relationships/hyperlink" Target="http://www.iminfin.ru/" TargetMode="External"/><Relationship Id="rId3" Type="http://schemas.openxmlformats.org/officeDocument/2006/relationships/hyperlink" Target="http://www.zakupki.ru/" TargetMode="External"/><Relationship Id="rId4" Type="http://schemas.openxmlformats.org/officeDocument/2006/relationships/hyperlink" Target="http://www.nalog.ru/" TargetMode="External"/><Relationship Id="rId5" Type="http://schemas.openxmlformats.org/officeDocument/2006/relationships/hyperlink" Target="mailto:finadm1@atnet.ru" TargetMode="Externa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8D4535BDE73400C31F76A9092757918D7D1D56A3751BE6CF56945B49D119145EBB4376682154CEFn3KF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Виды доходов бюджетов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Доходы бюджета- поступающие в бюджет средства, за исключением средств, являющихся источником финансирования дефицита бюджет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2349360"/>
            <a:ext cx="727236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логовые дох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федеральные налоги и сбор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налоги, предусмотренные специальными налоговыми режимам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региональные и местные налог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пени, штрафы по налогам и сбора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292640"/>
            <a:ext cx="633708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Федеральный бюдж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оходы от федеральных налогов и сборов по установленным норматива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ст.50БК РФ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 Бюджет субъекта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оходы региональных  налог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оходы федеральных налогов и сборов по установленным норматива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ст. 56БК РФ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. Местные бюдже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оходы местных налог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оходы от федеральных налогов и сборов и региональных налогов по установленны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нормативам (ст.61,61.1,61.2 БК РФ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6360" y="3860640"/>
            <a:ext cx="0" cy="43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48360" y="4149720"/>
            <a:ext cx="2195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се мы - налогоплательщи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3357720"/>
          <a:ext cx="7812000" cy="3141360"/>
        </p:xfrm>
        <a:graphic>
          <a:graphicData uri="http://schemas.openxmlformats.org/drawingml/2006/table">
            <a:tbl>
              <a:tblPr/>
              <a:tblGrid>
                <a:gridCol w="2901960"/>
                <a:gridCol w="2782800"/>
                <a:gridCol w="212724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рядок уплат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рок уплат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 получаемого дохода, в т.ч. из заработной пла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день фактической выпла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ходя из стоимости объектов недвижимос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 1 ноября, с 2015 года до 1 октября, следующего за истекшим налоговым периодом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ходя из кадастровой стоимости земельных участк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ранспортный нало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ходя из мощности двигателя транспортного средств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41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алог на доходы физических лиц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. 224 Налогового кодек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2924280"/>
            <a:ext cx="5688000" cy="143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Ставка налог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3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 отдельных случаях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%, 30%, 35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4581360"/>
            <a:ext cx="76932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орматив отчислени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547640" y="5084640"/>
            <a:ext cx="2087640" cy="4003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>
                  <a:alpha val="8823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11 г – 47,95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1547640" y="5661000"/>
            <a:ext cx="2016360" cy="358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>
                  <a:alpha val="8823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12 г – 41,59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5003640" y="5084640"/>
            <a:ext cx="2016360" cy="4003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>
                  <a:alpha val="8823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13 г – 41,59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5003640" y="5589720"/>
            <a:ext cx="2016360" cy="39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>
                  <a:alpha val="8823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14 г – 36,41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88000" y="1916280"/>
            <a:ext cx="22575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стные налоги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Налог на имущество физических лиц</a:t>
            </a:r>
            <a:br>
              <a:rPr sz="2400"/>
            </a:b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Решение городской Думы от 27.10.2005 №96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40592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Этот налог поступает в бюджет муниципального образования, а уплачивают его собственники имущества, признаваемого объектом налогооблож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бъекты налогообложения жилой дом, квартира, комната, дача, гараж, иное строение, помещение и сооружение, доля в праве общей собственности на имуществ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ид налога – местный налог, т.е. налоговые ставки устанавливаются нормативными правовыми актами представительных органов муниципального образования. По МО «Город Коряжма» ставки установлены в следующих пределах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11280" y="4581360"/>
          <a:ext cx="6193080" cy="1521000"/>
        </p:xfrm>
        <a:graphic>
          <a:graphicData uri="http://schemas.openxmlformats.org/drawingml/2006/table">
            <a:tbl>
              <a:tblPr/>
              <a:tblGrid>
                <a:gridCol w="4050000"/>
                <a:gridCol w="21430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ммарная инвентаризационная стоимость объектов налогообложения (если вы имеете в собственности несколько объектов, то их стоимость суммируется при определении ставки)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тавка нало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) до 300 тыс.руб.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1 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) от 300 тыс.руб. до 500 тыс.руб.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3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) свыше 500 тыс.руб.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7 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42920" y="6165720"/>
          <a:ext cx="7777080" cy="4557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вобождены от уплаты налога  многодетные семьи, имеющие 3 и более детей в возрасте до 18 лет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556000" cy="2087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стные налоги</a:t>
            </a:r>
            <a:br>
              <a:rPr sz="36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Земельный налог</a:t>
            </a:r>
            <a:br>
              <a:rPr sz="2800"/>
            </a:b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Решение городской Думы от 26.11.2004 № 452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79819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се средства этого налога поступают в бюджет город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емельный налог не только является основным источником доходов местных бюджетов, но и выполняет еще не менее важную стимулирующую функцию; способствует рациональному использованию земельных угодий, их охране, контрольно экологической обстановк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емельный налог уплачивают граждане и организации, обладающие земельными участками на праве собственности, праве постоянного (бессрочного) пользования или праве пожизненного наследуемого влад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лог местный, поэтому налоговые ставки (процент от кадастровой стоимости) устанавливаются нормативными правовыми актами представительных органов муниципального образования. По МО «Город Коряжма» ставки установлены в следующих пределах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размере 0,3 процента в отношении земельных участк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несенных к землям сельскохозяйственного назначения или к землям в составе зон сельскохозяйственного использования в населенных пунктах и используемых для сельскохозяйственного производств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нятых жилищным фондом и объектами инженерной инфраструктуры жилищно– коммунального комплекса (за исключением доли в праве на земельный участок, приходящийся на объект, не относящийся к жилищному фонду и к объектам инженерной инфраструктуры жилищно-коммунального комплекса) или приобретенных (предоставленных) для жилищного строительств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размере 0,1 процента в отношении земельных участк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обретенных (предоставленных) под строительство и эксплуатацию гаражей-автостоянок индивидуального транспор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нятых товариществами собственников жилья, жилищными кооперативами, жилищно-строительными кооперативами, товариществами домовладельцев, предназначенных для размещения домов индивидуальной жилой застройк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обретенных (предоставленных) для личного подсобного хозяйства, садоводства, огородничества или животновод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размере 1,5 процента в отношении прочих земельных участк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016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ткрытые информационные ресурс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budcodex.ru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лощадка для общественного обсуждения предлагаемых в Бюджетный кодекс Российской Федерации изменений, анализа лучшего опыта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iminfin.ru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б исполнении бюджетов всех субъектов Российской Федерации, о межбюджетных трансфертах и другая информация из открытых официальных источников (Минфин РФ, Казначейство РФ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ww.zakupki.ru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нформация о размещении заказов на поставки товаров, выполнение работ, оказание услуг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nalog.ru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нформация для налогоплательщиков, действующие налоги и сборы в Российской Федерации, налоговое законодательство и разъяснения ФНС Росс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Финансовое управление МО «Город Коряжма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finadm1@atnet.r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Зам. главы муниципального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 экономическому развитию и финанса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начальник финансового управлени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льга Александровна Бушуев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5364000" y="4365720"/>
            <a:ext cx="2521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Виды доходов бюджетов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Неналоговые доход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205000"/>
            <a:ext cx="684072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Доходы от использования имущества, находящейся в государственной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ли муниципальной собственнос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Доходы от продажи имущества, находящейся в государственной или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муниципальной собственнос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Доходы от платных услуг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Средства, получаемые в результате применения мер административной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 уголовной ответственности, иные суммы принудительного изъят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Средства самообложения гражда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Прочие неналоговые доход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581360"/>
            <a:ext cx="66978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1. Федеральный бюдж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оходы  по установленным нормативам ст.51БК РФ, прибыль ЦБ РФ, доходы о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нешнеэкономической деятельно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 Бюджет субъекта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оходы по установленным нормативам ст.57БК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. Местные бюдже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оходы по нормативам, установленным ст.62 БК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Часть прибыли МУП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29264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Виды доходов бюджетов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Безвозмездные поступления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тации и субсидии из бюджетов других уровн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убвенции из федерального бюджета и (или) из бюджетов субъектов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ные межбюджетные трансферты из других бюджетов бюджетной системы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езвозмездные поступления от физических и юридических лиц, международных организац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алоговые доходы городского бюджет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2362320"/>
          <a:ext cx="7837560" cy="3417840"/>
        </p:xfrm>
        <a:graphic>
          <a:graphicData uri="http://schemas.openxmlformats.org/drawingml/2006/table">
            <a:tbl>
              <a:tblPr/>
              <a:tblGrid>
                <a:gridCol w="5429520"/>
                <a:gridCol w="24080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ид дох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рмативы отчислений в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бюджеты городских округ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ные налог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едеральные налоги и сборы, а также налоги, взимаемые в связи с применением специальных налоговых режим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ст 61.2 БК РФ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ст. 3 областного закона №78-6-О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*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а, взимаемого в связи с применением патентной системы налогооблож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826920" y="5805360"/>
            <a:ext cx="78487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государственной пошлины за совершение нотариальных действий должностными лицами органов местного самоуправлени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поселения, уполномоченными в соответствии с законодательными </a:t>
            </a:r>
            <a:r>
              <a:rPr b="0" lang="en-US" sz="1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актами</a:t>
            </a:r>
            <a:r>
              <a:rPr b="0" lang="en-US" sz="1000" spc="-1" strike="noStrike" u="sng">
                <a:solidFill>
                  <a:srgbClr val="003366"/>
                </a:solidFill>
                <a:uFillTx/>
                <a:latin typeface="Arial"/>
              </a:rPr>
              <a:t> Российской Федерации на совершение нотариальных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действий, за выдачу  органом местного самоуправления поселения специального разрешения на движение по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автомобильной дороге транспортного средства, осуществляющего перевозки опасных,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тяжеловесных и (или) крупногабаритных грузов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спределение неналоговых доходов городского бюдже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71640" y="2708280"/>
          <a:ext cx="7272360" cy="2830680"/>
        </p:xfrm>
        <a:graphic>
          <a:graphicData uri="http://schemas.openxmlformats.org/drawingml/2006/table">
            <a:tbl>
              <a:tblPr/>
              <a:tblGrid>
                <a:gridCol w="5037120"/>
                <a:gridCol w="2235240"/>
              </a:tblGrid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ид дох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рмативы отчислений в % в бюдже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ородских округ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 от передачи в аренду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ов от платных услуг, оказываемых муниципальными казенными учреждения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Часть прибыли муниципальных унитарных предприят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0" y="46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12680" y="760320"/>
          <a:ext cx="8918640" cy="541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760320"/>
                    <a:ext cx="8918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1840" y="1125000"/>
            <a:ext cx="82821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 Black"/>
              </a:rPr>
              <a:t>СТРУКТУРА СОБСТВЕННЫХ ДОХОДОВ</a:t>
            </a:r>
            <a:br>
              <a:rPr sz="2600"/>
            </a:br>
            <a:r>
              <a:rPr b="0" lang="en-US" sz="2600" spc="-1" strike="noStrike">
                <a:solidFill>
                  <a:srgbClr val="006666"/>
                </a:solidFill>
                <a:latin typeface="Arial Black"/>
              </a:rPr>
              <a:t>МО «Город Коряжма» в 2014 году 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87280" y="2565360"/>
          <a:ext cx="795672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65360"/>
                    <a:ext cx="795672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94840" y="4437000"/>
            <a:ext cx="169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налог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на совокупн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доход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37 460т.р, 9,9%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3789360"/>
            <a:ext cx="224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 Black"/>
              </a:rPr>
              <a:t>НДФЛ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 Black"/>
              </a:rPr>
              <a:t>263 207</a:t>
            </a: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 Black"/>
              </a:rPr>
              <a:t>т.р., 70%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0840" y="2924280"/>
            <a:ext cx="18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налоги н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имущество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28 000т.р., 7,4%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2205000"/>
            <a:ext cx="177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неналоговые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доходы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48282 т.р., 12%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8000" y="2349360"/>
            <a:ext cx="159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госпошлин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2600 т.р., 0,7%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2852640"/>
            <a:ext cx="358920" cy="703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421000"/>
            <a:ext cx="177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Акцизы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245,2 т.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076720" y="2781360"/>
            <a:ext cx="1440000" cy="682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 Black"/>
              </a:rPr>
              <a:t>СТРУКТУРА МЕЖБЮДЖЕТНЫХ ТРАНСФЕРТОВ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МО «Город Коряжма»   в 2014 году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2565360"/>
          <a:ext cx="662472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565360"/>
                    <a:ext cx="662472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102920" y="2708280"/>
            <a:ext cx="216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субвенции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373 996,6 т.р.; 83,7%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57640" y="5589720"/>
            <a:ext cx="199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субсидии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72 811,5т.р.; 16,2%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589720"/>
            <a:ext cx="252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прочие безвозмездные поступлен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237,4 т.р.; 0,1%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435280" y="5084280"/>
            <a:ext cx="539640" cy="63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059280" y="4941360"/>
            <a:ext cx="865080" cy="100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3284640"/>
            <a:ext cx="0" cy="5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56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08:57:00Z</dcterms:created>
  <dc:creator>user</dc:creator>
  <dc:description/>
  <dc:language>en-US</dc:language>
  <cp:lastModifiedBy>user</cp:lastModifiedBy>
  <dcterms:modified xsi:type="dcterms:W3CDTF">2014-10-07T11:00:56Z</dcterms:modified>
  <cp:revision>34</cp:revision>
  <dc:subject/>
  <dc:title>Что такое бюджет? Какие налоги мы платим?</dc:title>
</cp:coreProperties>
</file>